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5.wmf" ContentType="image/x-wmf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9C0D-7470-4B8B-ABE8-2FC77151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5A7E-AF5F-4069-B05A-E0CE118A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9A80-6C51-4FFF-AE5B-8C6BE2AA5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4F3A-44F2-412B-8783-843B820C0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74D8-286F-4E5A-AA7A-C1219EF7B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D369-B40F-46F7-AC0B-50782D38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6906-217D-4D8F-BF1D-6C2A0C8C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EDA2-DA95-4C0D-A17A-EFE4E9AA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90A3-ED69-4E76-9E8A-87E34098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A754-39F8-4F7C-BC6D-A43573C2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940E-63C7-4E32-900B-2F3004AA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F5F9-EE19-401A-B4F3-B64E7231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AA77-883C-48EF-9AD5-246C86FA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0065-4B58-42D7-AED2-E1D68714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7CB8-81B8-4369-AA69-36AA88136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E245F-4124-4A7A-A7E1-DFFE445D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B6DC4-0D2D-41E7-AE9B-410E2A2A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7F79-03A3-4918-9116-5FC3CAFF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B78B-E623-428B-AEED-DED4DE89B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4318-B78D-4C88-8730-69CDE8C4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7C14-3F96-4A45-BDD4-8B87C9D9C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E52D-281F-405A-9E66-9BEEF7D4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D093-F188-4801-A9D2-0A29F8D7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C953-E9F0-49FD-855C-5517945D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5380-356D-46E7-A3D3-21A94AD8E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705720" y="6400800"/>
            <a:ext cx="2209680" cy="3240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639720" y="868320"/>
            <a:ext cx="7823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0C05-3CB6-4A11-AEAB-97574D119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78360" cy="798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672240" y="1197000"/>
            <a:ext cx="795240" cy="795240"/>
          </a:xfrm>
          <a:prstGeom prst="rect">
            <a:avLst/>
          </a:prstGeom>
          <a:ln w="38160">
            <a:solidFill>
              <a:srgbClr val="2e2eba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459160" y="314280"/>
            <a:ext cx="990360" cy="696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4757760" y="341280"/>
            <a:ext cx="1671480" cy="61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807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Times New Roman"/>
              </a:rPr>
              <a:t>Progress of Mass Production Studies for IFE Tar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6840" y="4694400"/>
            <a:ext cx="852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ian Vermillion, Barry McQuillan, Lloyd Brown, Dan Goodin, Haibo Huang, Patrick Goodman, Willa Maksaereekul, Jon Streit, Diana Schro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gh Average Power Laser Program Worksh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Angeles, Califor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June 2-3, 200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62000" y="6010200"/>
            <a:ext cx="990360" cy="696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354720" y="6134040"/>
            <a:ext cx="278928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297560" y="6066000"/>
            <a:ext cx="1671840" cy="61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9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778360" cy="798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8348760" y="0"/>
            <a:ext cx="795240" cy="795240"/>
          </a:xfrm>
          <a:prstGeom prst="rect">
            <a:avLst/>
          </a:prstGeom>
          <a:ln w="38160">
            <a:solidFill>
              <a:srgbClr val="2e2eba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4846680" y="1782720"/>
            <a:ext cx="4022640" cy="2745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3251160" y="2577960"/>
            <a:ext cx="523800" cy="201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62320" y="2979720"/>
            <a:ext cx="527040" cy="201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2779560"/>
            <a:ext cx="1277640" cy="2016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66800" y="2577960"/>
            <a:ext cx="1009080" cy="603000"/>
            <a:chOff x="766800" y="2577960"/>
            <a:chExt cx="1009080" cy="603000"/>
          </a:xfrm>
        </p:grpSpPr>
        <p:sp>
          <p:nvSpPr>
            <p:cNvPr id="100" name=""/>
            <p:cNvSpPr/>
            <p:nvPr/>
          </p:nvSpPr>
          <p:spPr>
            <a:xfrm>
              <a:off x="766800" y="2778840"/>
              <a:ext cx="50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66800" y="2980080"/>
              <a:ext cx="50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271160" y="2577960"/>
              <a:ext cx="0" cy="20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71160" y="2577960"/>
              <a:ext cx="50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75880" y="2577960"/>
              <a:ext cx="0" cy="20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71160" y="2980080"/>
              <a:ext cx="0" cy="20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71160" y="3180960"/>
              <a:ext cx="50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1775880" y="2980080"/>
              <a:ext cx="0" cy="20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271160" y="2778840"/>
              <a:ext cx="50436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71160" y="2980080"/>
              <a:ext cx="50436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095720" y="2844720"/>
            <a:ext cx="100080" cy="100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45080" y="2828880"/>
            <a:ext cx="99720" cy="101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75000" y="2835360"/>
            <a:ext cx="100080" cy="102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0280" y="2979720"/>
            <a:ext cx="1009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280" y="2779560"/>
            <a:ext cx="1009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59080" y="2809800"/>
            <a:ext cx="120600" cy="125640"/>
          </a:xfrm>
          <a:prstGeom prst="ellipse">
            <a:avLst/>
          </a:prstGeom>
          <a:solidFill>
            <a:srgbClr val="ff66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9840" y="2817720"/>
            <a:ext cx="120600" cy="125640"/>
          </a:xfrm>
          <a:prstGeom prst="ellipse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8400" y="2814480"/>
            <a:ext cx="120600" cy="125640"/>
          </a:xfrm>
          <a:prstGeom prst="ellipse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90440" y="2814480"/>
            <a:ext cx="122400" cy="123840"/>
          </a:xfrm>
          <a:prstGeom prst="ellipse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05080" y="2830680"/>
            <a:ext cx="120600" cy="12348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84520" y="2822400"/>
            <a:ext cx="120600" cy="1224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11400" y="2825640"/>
            <a:ext cx="120600" cy="12564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760400" y="2582640"/>
            <a:ext cx="1009440" cy="606240"/>
            <a:chOff x="1760400" y="2582640"/>
            <a:chExt cx="1009440" cy="606240"/>
          </a:xfrm>
        </p:grpSpPr>
        <p:sp>
          <p:nvSpPr>
            <p:cNvPr id="123" name=""/>
            <p:cNvSpPr/>
            <p:nvPr/>
          </p:nvSpPr>
          <p:spPr>
            <a:xfrm>
              <a:off x="1760400" y="2784960"/>
              <a:ext cx="50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60400" y="2986920"/>
              <a:ext cx="50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2265120" y="2582640"/>
              <a:ext cx="0" cy="2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65120" y="2583000"/>
              <a:ext cx="50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69840" y="2583000"/>
              <a:ext cx="0" cy="2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65120" y="2986920"/>
              <a:ext cx="0" cy="2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65120" y="3188880"/>
              <a:ext cx="50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769840" y="2986560"/>
              <a:ext cx="0" cy="20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265120" y="2784960"/>
              <a:ext cx="50472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65120" y="2986920"/>
              <a:ext cx="50472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751120" y="2592360"/>
            <a:ext cx="1009440" cy="603000"/>
            <a:chOff x="2751120" y="2592360"/>
            <a:chExt cx="1009440" cy="603000"/>
          </a:xfrm>
        </p:grpSpPr>
        <p:sp>
          <p:nvSpPr>
            <p:cNvPr id="134" name=""/>
            <p:cNvSpPr/>
            <p:nvPr/>
          </p:nvSpPr>
          <p:spPr>
            <a:xfrm>
              <a:off x="2751120" y="2793240"/>
              <a:ext cx="50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51120" y="2994480"/>
              <a:ext cx="50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255840" y="2592360"/>
              <a:ext cx="0" cy="20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55840" y="2592360"/>
              <a:ext cx="50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60560" y="2592360"/>
              <a:ext cx="0" cy="20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55840" y="2994480"/>
              <a:ext cx="0" cy="20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55840" y="3195360"/>
              <a:ext cx="50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760560" y="2994480"/>
              <a:ext cx="0" cy="20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55840" y="2793240"/>
              <a:ext cx="50472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55840" y="2994480"/>
              <a:ext cx="50472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78120" y="2822400"/>
            <a:ext cx="120600" cy="125640"/>
          </a:xfrm>
          <a:prstGeom prst="ellipse">
            <a:avLst/>
          </a:prstGeom>
          <a:solidFill>
            <a:srgbClr val="ff66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65600" y="3000240"/>
            <a:ext cx="803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3240" y="2828880"/>
            <a:ext cx="100080" cy="1015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55880" y="2765520"/>
            <a:ext cx="80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0" y="868320"/>
            <a:ext cx="5645160" cy="23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lvl="2" marL="411480" indent="-20556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411480" indent="-20556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are evaluating growing the full density overcoat into the pores of the DVB foam by changing from PVP to Bisphenol-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11480" indent="-20556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sphenol-A forms long tendrils, may allow additional Bisphenol-A to get deeper into foam w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11480" indent="-20556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st experimentation by M. Takagi, now need to examine with renewed foc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0" y="40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’s grow the layer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203040" y="5850000"/>
            <a:ext cx="17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gile b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 y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3105720" y="5805360"/>
            <a:ext cx="146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s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er y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4" name=""/>
          <p:cNvGrpSpPr/>
          <p:nvPr/>
        </p:nvGrpSpPr>
        <p:grpSpPr>
          <a:xfrm>
            <a:off x="274680" y="4068720"/>
            <a:ext cx="4120920" cy="2089440"/>
            <a:chOff x="274680" y="4068720"/>
            <a:chExt cx="4120920" cy="2089440"/>
          </a:xfrm>
        </p:grpSpPr>
        <p:sp>
          <p:nvSpPr>
            <p:cNvPr id="1075" name=""/>
            <p:cNvSpPr/>
            <p:nvPr/>
          </p:nvSpPr>
          <p:spPr>
            <a:xfrm>
              <a:off x="274680" y="4579560"/>
              <a:ext cx="1177200" cy="1275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74680" y="4068720"/>
              <a:ext cx="1177200" cy="637560"/>
            </a:xfrm>
            <a:prstGeom prst="rect">
              <a:avLst/>
            </a:prstGeom>
            <a:solidFill>
              <a:srgbClr val="ff0000">
                <a:alpha val="6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218400" y="4579560"/>
              <a:ext cx="1177200" cy="1275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218400" y="4409640"/>
              <a:ext cx="1177200" cy="637560"/>
            </a:xfrm>
            <a:prstGeom prst="rect">
              <a:avLst/>
            </a:prstGeom>
            <a:solidFill>
              <a:srgbClr val="ff0000">
                <a:alpha val="6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217880" y="5515560"/>
              <a:ext cx="1374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9080" indent="225360"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VB foa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217880" y="4240080"/>
              <a:ext cx="1940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9080" indent="225360"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vercoat (3-5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µ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1451880" y="5685480"/>
              <a:ext cx="23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1451880" y="4409640"/>
              <a:ext cx="23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4948200" y="1082520"/>
            <a:ext cx="4572000" cy="1528920"/>
            <a:chOff x="4948200" y="1082520"/>
            <a:chExt cx="4572000" cy="1528920"/>
          </a:xfrm>
        </p:grpSpPr>
        <p:grpSp>
          <p:nvGrpSpPr>
            <p:cNvPr id="1084" name=""/>
            <p:cNvGrpSpPr/>
            <p:nvPr/>
          </p:nvGrpSpPr>
          <p:grpSpPr>
            <a:xfrm>
              <a:off x="5958000" y="1650960"/>
              <a:ext cx="1143000" cy="457200"/>
              <a:chOff x="5958000" y="1650960"/>
              <a:chExt cx="1143000" cy="457200"/>
            </a:xfrm>
          </p:grpSpPr>
          <p:sp>
            <p:nvSpPr>
              <p:cNvPr id="1085" name=""/>
              <p:cNvSpPr/>
              <p:nvPr/>
            </p:nvSpPr>
            <p:spPr>
              <a:xfrm>
                <a:off x="5958000" y="187956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262560" y="1650960"/>
                <a:ext cx="533520" cy="457200"/>
              </a:xfrm>
              <a:prstGeom prst="hexagon">
                <a:avLst>
                  <a:gd name="adj" fmla="val 29173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796080" y="187956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383160" y="1727280"/>
                <a:ext cx="304920" cy="304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9" name=""/>
            <p:cNvGrpSpPr/>
            <p:nvPr/>
          </p:nvGrpSpPr>
          <p:grpSpPr>
            <a:xfrm>
              <a:off x="7348680" y="1631880"/>
              <a:ext cx="1143000" cy="482400"/>
              <a:chOff x="7348680" y="1631880"/>
              <a:chExt cx="1143000" cy="482400"/>
            </a:xfrm>
          </p:grpSpPr>
          <p:sp>
            <p:nvSpPr>
              <p:cNvPr id="1090" name=""/>
              <p:cNvSpPr/>
              <p:nvPr/>
            </p:nvSpPr>
            <p:spPr>
              <a:xfrm>
                <a:off x="7348680" y="1873080"/>
                <a:ext cx="30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653240" y="1631880"/>
                <a:ext cx="533520" cy="482400"/>
              </a:xfrm>
              <a:prstGeom prst="hexagon">
                <a:avLst>
                  <a:gd name="adj" fmla="val 27649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8186760" y="187308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773840" y="1712160"/>
                <a:ext cx="304920" cy="3218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4" name=""/>
            <p:cNvSpPr/>
            <p:nvPr/>
          </p:nvSpPr>
          <p:spPr>
            <a:xfrm>
              <a:off x="7088040" y="16891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6319800" y="1193760"/>
              <a:ext cx="1530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326280" y="2193840"/>
              <a:ext cx="1530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7989840" y="1701720"/>
              <a:ext cx="153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948200" y="1689120"/>
              <a:ext cx="153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7221600" y="149220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7221600" y="1993680"/>
              <a:ext cx="0" cy="24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456160" y="1082520"/>
              <a:ext cx="3564000" cy="152892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4389480" y="3429000"/>
            <a:ext cx="47545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2" marL="457200" indent="-2286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2286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ly, a two monomer system may be desirable to increase smoot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2286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itch back to PVP after initial “bonding layer”  has been formed with Bisphenol-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2286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ing under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2286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149880" y="2717640"/>
            <a:ext cx="2129040" cy="4651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sphenol-A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0" y="40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ying process control to IFE foam target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-182520" y="1042920"/>
            <a:ext cx="91440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ing apparatus to measure process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ly using point laser source-photo sensor diode pai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is fast in real-time, can be used for control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rot="5400000">
            <a:off x="571320" y="4209840"/>
            <a:ext cx="2377800" cy="4572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rot="5400000">
            <a:off x="1614600" y="3794760"/>
            <a:ext cx="276480" cy="28404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531800" y="3249720"/>
            <a:ext cx="0" cy="237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989000" y="3249720"/>
            <a:ext cx="0" cy="2377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17400" y="3981600"/>
            <a:ext cx="457200" cy="182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74600" y="4071960"/>
            <a:ext cx="640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074600" y="3981600"/>
            <a:ext cx="54936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074600" y="4164120"/>
            <a:ext cx="1371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623960" y="3981600"/>
            <a:ext cx="82224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714680" y="4071960"/>
            <a:ext cx="731520" cy="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 rot="5400000">
            <a:off x="2492280" y="3843360"/>
            <a:ext cx="36504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17400" y="4713120"/>
            <a:ext cx="457200" cy="182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074600" y="4896000"/>
            <a:ext cx="1371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rot="5400000">
            <a:off x="2492280" y="4575240"/>
            <a:ext cx="365040" cy="457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074600" y="4803840"/>
            <a:ext cx="1371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074600" y="4713120"/>
            <a:ext cx="13716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903400" y="4803840"/>
            <a:ext cx="365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903400" y="4073400"/>
            <a:ext cx="365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268800" y="3981600"/>
            <a:ext cx="914400" cy="914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811600" y="4254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289080" indent="225360" algn="ctr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-168120" y="4248000"/>
            <a:ext cx="14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289080" indent="225360" algn="ctr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495440" y="425628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289080" indent="225360" algn="ctr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-528480" y="2136960"/>
            <a:ext cx="5908680" cy="1855080"/>
            <a:chOff x="-528480" y="2136960"/>
            <a:chExt cx="5908680" cy="1855080"/>
          </a:xfrm>
        </p:grpSpPr>
        <p:sp>
          <p:nvSpPr>
            <p:cNvPr id="1129" name=""/>
            <p:cNvSpPr/>
            <p:nvPr/>
          </p:nvSpPr>
          <p:spPr>
            <a:xfrm>
              <a:off x="1758960" y="2743200"/>
              <a:ext cx="0" cy="50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354400" y="2610000"/>
              <a:ext cx="457200" cy="45720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343240" y="2521080"/>
              <a:ext cx="490320" cy="479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V="1">
              <a:off x="3726000" y="2528640"/>
              <a:ext cx="0" cy="146340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 flipV="1">
              <a:off x="2596680" y="2516040"/>
              <a:ext cx="1143000" cy="1296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1771200" y="2759040"/>
              <a:ext cx="808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932120" y="2136960"/>
              <a:ext cx="344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289080" indent="225360"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Real Time Feedbac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-528480" y="2409840"/>
              <a:ext cx="307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289080" indent="225360"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Mass Flow Contr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5181480" y="2498760"/>
            <a:ext cx="396252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 IIA, 0.5 m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PS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 (m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active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Photocurrent amplif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I DAQ c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View 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7327800" y="4759200"/>
            <a:ext cx="1371600" cy="92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0" y="42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aratus successfully images clear uncured polystyrene caps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669960" y="1192320"/>
          <a:ext cx="2424240" cy="51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1192320"/>
                    <a:ext cx="2424240" cy="51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3200400" y="1050840"/>
            <a:ext cx="564984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 bench test runs comp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ying LabView VIs for real-time data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 to test a planar source to ensure coverage of flow tube and consisten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aque DVB foam shells should be easier to acquire than polystyren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3" name=""/>
          <p:cNvGrpSpPr/>
          <p:nvPr/>
        </p:nvGrpSpPr>
        <p:grpSpPr>
          <a:xfrm>
            <a:off x="3657600" y="3429000"/>
            <a:ext cx="1371600" cy="2781360"/>
            <a:chOff x="3657600" y="3429000"/>
            <a:chExt cx="1371600" cy="2781360"/>
          </a:xfrm>
        </p:grpSpPr>
        <p:sp>
          <p:nvSpPr>
            <p:cNvPr id="1144" name=""/>
            <p:cNvSpPr/>
            <p:nvPr/>
          </p:nvSpPr>
          <p:spPr>
            <a:xfrm>
              <a:off x="3657600" y="3446640"/>
              <a:ext cx="0" cy="276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029200" y="3446640"/>
              <a:ext cx="0" cy="276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6" name=""/>
            <p:cNvGrpSpPr/>
            <p:nvPr/>
          </p:nvGrpSpPr>
          <p:grpSpPr>
            <a:xfrm>
              <a:off x="4005360" y="4481280"/>
              <a:ext cx="658800" cy="630360"/>
              <a:chOff x="4005360" y="4481280"/>
              <a:chExt cx="658800" cy="630360"/>
            </a:xfrm>
          </p:grpSpPr>
          <p:sp>
            <p:nvSpPr>
              <p:cNvPr id="1147" name=""/>
              <p:cNvSpPr/>
              <p:nvPr/>
            </p:nvSpPr>
            <p:spPr>
              <a:xfrm flipV="1">
                <a:off x="4005360" y="4480920"/>
                <a:ext cx="658800" cy="6303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4098960" y="4576320"/>
                <a:ext cx="466560" cy="447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9" name=""/>
            <p:cNvSpPr/>
            <p:nvPr/>
          </p:nvSpPr>
          <p:spPr>
            <a:xfrm>
              <a:off x="4280040" y="4743720"/>
              <a:ext cx="112680" cy="112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V="1">
              <a:off x="4330800" y="3429000"/>
              <a:ext cx="9360" cy="2743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1" name=""/>
          <p:cNvGrpSpPr/>
          <p:nvPr/>
        </p:nvGrpSpPr>
        <p:grpSpPr>
          <a:xfrm>
            <a:off x="5486400" y="3429000"/>
            <a:ext cx="1371600" cy="2763720"/>
            <a:chOff x="5486400" y="3429000"/>
            <a:chExt cx="1371600" cy="2763720"/>
          </a:xfrm>
        </p:grpSpPr>
        <p:sp>
          <p:nvSpPr>
            <p:cNvPr id="1152" name=""/>
            <p:cNvSpPr/>
            <p:nvPr/>
          </p:nvSpPr>
          <p:spPr>
            <a:xfrm>
              <a:off x="5486400" y="3429000"/>
              <a:ext cx="0" cy="276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858000" y="3429000"/>
              <a:ext cx="0" cy="2763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4" name=""/>
            <p:cNvGrpSpPr/>
            <p:nvPr/>
          </p:nvGrpSpPr>
          <p:grpSpPr>
            <a:xfrm>
              <a:off x="5667480" y="4492800"/>
              <a:ext cx="658800" cy="630000"/>
              <a:chOff x="5667480" y="4492800"/>
              <a:chExt cx="658800" cy="630000"/>
            </a:xfrm>
          </p:grpSpPr>
          <p:sp>
            <p:nvSpPr>
              <p:cNvPr id="1155" name=""/>
              <p:cNvSpPr/>
              <p:nvPr/>
            </p:nvSpPr>
            <p:spPr>
              <a:xfrm flipV="1">
                <a:off x="5667480" y="4492800"/>
                <a:ext cx="658800" cy="630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V="1">
                <a:off x="5761080" y="4587840"/>
                <a:ext cx="466560" cy="447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>
              <a:off x="6116760" y="4745160"/>
              <a:ext cx="112680" cy="112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6167520" y="3430440"/>
              <a:ext cx="9360" cy="27432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9" name=""/>
          <p:cNvSpPr/>
          <p:nvPr/>
        </p:nvSpPr>
        <p:spPr>
          <a:xfrm>
            <a:off x="7315200" y="3429000"/>
            <a:ext cx="0" cy="276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8686800" y="3429000"/>
            <a:ext cx="0" cy="276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7496280" y="4492800"/>
            <a:ext cx="658800" cy="630000"/>
            <a:chOff x="7496280" y="4492800"/>
            <a:chExt cx="658800" cy="630000"/>
          </a:xfrm>
        </p:grpSpPr>
        <p:sp>
          <p:nvSpPr>
            <p:cNvPr id="1162" name=""/>
            <p:cNvSpPr/>
            <p:nvPr/>
          </p:nvSpPr>
          <p:spPr>
            <a:xfrm flipV="1">
              <a:off x="7496280" y="4492800"/>
              <a:ext cx="658800" cy="630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V="1">
              <a:off x="7589880" y="4587840"/>
              <a:ext cx="466560" cy="4471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"/>
          <p:cNvSpPr/>
          <p:nvPr/>
        </p:nvSpPr>
        <p:spPr>
          <a:xfrm>
            <a:off x="0" y="42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can provide the means for many process control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851440" y="2149560"/>
            <a:ext cx="3292560" cy="18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analysis from this ru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rat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9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Devia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5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6" name="" descr=""/>
          <p:cNvPicPr/>
          <p:nvPr/>
        </p:nvPicPr>
        <p:blipFill>
          <a:blip r:embed="rId1"/>
          <a:stretch/>
        </p:blipFill>
        <p:spPr>
          <a:xfrm>
            <a:off x="0" y="868320"/>
            <a:ext cx="6400800" cy="4367160"/>
          </a:xfrm>
          <a:prstGeom prst="rect">
            <a:avLst/>
          </a:prstGeom>
          <a:ln w="0">
            <a:noFill/>
          </a:ln>
        </p:spPr>
      </p:pic>
      <p:sp>
        <p:nvSpPr>
          <p:cNvPr id="1167" name=""/>
          <p:cNvSpPr/>
          <p:nvPr/>
        </p:nvSpPr>
        <p:spPr>
          <a:xfrm>
            <a:off x="0" y="5165640"/>
            <a:ext cx="914400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process variables or results that might be determined with this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meter, wall thickness, out-of-round, non-concentricity, capsule s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tion of beads (loss of encapsulation), satellites (debris left from droplet form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"/>
          <p:cNvSpPr/>
          <p:nvPr/>
        </p:nvSpPr>
        <p:spPr>
          <a:xfrm>
            <a:off x="0" y="993600"/>
            <a:ext cx="9144000" cy="49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2" marL="457200" indent="-22860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22860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804960" indent="-23040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804960" indent="-23040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027080" indent="28908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804960" indent="-23040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0" y="40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sor system can be used for additional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-549360" y="960480"/>
            <a:ext cx="914400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variables that control non-con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sensor pairs mounted in the proposed continuous flow tube appara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 of gelation for DVB she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1" name="" descr=""/>
          <p:cNvPicPr/>
          <p:nvPr/>
        </p:nvPicPr>
        <p:blipFill>
          <a:blip r:embed="rId1"/>
          <a:stretch/>
        </p:blipFill>
        <p:spPr>
          <a:xfrm>
            <a:off x="0" y="2514600"/>
            <a:ext cx="4572000" cy="3119400"/>
          </a:xfrm>
          <a:prstGeom prst="rect">
            <a:avLst/>
          </a:prstGeom>
          <a:ln w="0">
            <a:noFill/>
          </a:ln>
        </p:spPr>
      </p:pic>
      <p:grpSp>
        <p:nvGrpSpPr>
          <p:cNvPr id="1172" name=""/>
          <p:cNvGrpSpPr/>
          <p:nvPr/>
        </p:nvGrpSpPr>
        <p:grpSpPr>
          <a:xfrm>
            <a:off x="639720" y="3246480"/>
            <a:ext cx="1636560" cy="1636560"/>
            <a:chOff x="639720" y="3246480"/>
            <a:chExt cx="1636560" cy="1636560"/>
          </a:xfrm>
        </p:grpSpPr>
        <p:sp>
          <p:nvSpPr>
            <p:cNvPr id="1173" name=""/>
            <p:cNvSpPr/>
            <p:nvPr/>
          </p:nvSpPr>
          <p:spPr>
            <a:xfrm flipV="1">
              <a:off x="639720" y="3246480"/>
              <a:ext cx="1636560" cy="16365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V="1">
              <a:off x="863280" y="3339720"/>
              <a:ext cx="1160640" cy="1160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5" name=""/>
          <p:cNvGrpSpPr/>
          <p:nvPr/>
        </p:nvGrpSpPr>
        <p:grpSpPr>
          <a:xfrm>
            <a:off x="7031160" y="3218040"/>
            <a:ext cx="1636560" cy="1636560"/>
            <a:chOff x="7031160" y="3218040"/>
            <a:chExt cx="1636560" cy="1636560"/>
          </a:xfrm>
        </p:grpSpPr>
        <p:sp>
          <p:nvSpPr>
            <p:cNvPr id="1176" name=""/>
            <p:cNvSpPr/>
            <p:nvPr/>
          </p:nvSpPr>
          <p:spPr>
            <a:xfrm>
              <a:off x="7031160" y="3218040"/>
              <a:ext cx="1636560" cy="163656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254720" y="3600720"/>
              <a:ext cx="1160640" cy="11602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78" name="" descr=""/>
          <p:cNvPicPr/>
          <p:nvPr/>
        </p:nvPicPr>
        <p:blipFill>
          <a:blip r:embed="rId2"/>
          <a:stretch/>
        </p:blipFill>
        <p:spPr>
          <a:xfrm>
            <a:off x="4165560" y="2373480"/>
            <a:ext cx="497844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"/>
          <p:cNvSpPr/>
          <p:nvPr/>
        </p:nvSpPr>
        <p:spPr>
          <a:xfrm>
            <a:off x="0" y="993600"/>
            <a:ext cx="9144000" cy="49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2" marL="457200" indent="-22860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22860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804960" indent="-23040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804960" indent="-23040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027080" indent="28908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804960" indent="-23040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0" y="42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 analysis as a tool for more advanced process control and real-time characte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0" y="960480"/>
            <a:ext cx="9144000" cy="52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se using still image analysis for diameter and out of 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b analysis correlation to wet and dry diame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t capsule calculation for OD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 = ID x (1+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W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t capsule calculation for ID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 = ((W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6) / (3600 x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y capsule correlation for polystyren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D=ID x (1 + f(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/W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side Dia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ide Dia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il P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ner Water P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(O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t% polymer in Oil P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DVB foam capsules, we start with wet shell calculations, no loss of solvent, but realize this is just an approxi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ies underway to determine empirical correlations between wet and dry targ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 with National Instruments to determine capabilities for real-time characterization utilizing Vision Analysis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" descr=""/>
          <p:cNvPicPr/>
          <p:nvPr/>
        </p:nvPicPr>
        <p:blipFill>
          <a:blip r:embed="rId1"/>
          <a:stretch/>
        </p:blipFill>
        <p:spPr>
          <a:xfrm rot="21420000">
            <a:off x="6586560" y="1144440"/>
            <a:ext cx="2265480" cy="4191120"/>
          </a:xfrm>
          <a:prstGeom prst="rect">
            <a:avLst/>
          </a:prstGeom>
          <a:ln w="0">
            <a:noFill/>
          </a:ln>
        </p:spPr>
      </p:pic>
      <p:sp>
        <p:nvSpPr>
          <p:cNvPr id="1183" name=""/>
          <p:cNvSpPr/>
          <p:nvPr/>
        </p:nvSpPr>
        <p:spPr>
          <a:xfrm>
            <a:off x="0" y="993600"/>
            <a:ext cx="9144000" cy="49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2" marL="457200" indent="-22860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22860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804960" indent="-23040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804960" indent="-23040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027080" indent="28908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804960" indent="-23040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0" y="42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ief Status of Target Layering Experiment (Cryogenic Fluidized B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0" y="853920"/>
            <a:ext cx="72565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 target systems are highly isothermal for short t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system would be highly isothermal time-avera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 out to vendor as a packag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2919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cuum shell, thermal shield, manipulator, stand, lift mechanism for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 will build/proc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2919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ow loop - includes: fluidized bed, helium blower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9160" indent="-29196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t exchangers, cryocoolers, permeation c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dated flow loop for reversible flow (per UR/LLE comme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6" name="" descr=""/>
          <p:cNvPicPr/>
          <p:nvPr/>
        </p:nvPicPr>
        <p:blipFill>
          <a:blip r:embed="rId2"/>
          <a:stretch/>
        </p:blipFill>
        <p:spPr>
          <a:xfrm>
            <a:off x="152280" y="3124080"/>
            <a:ext cx="6553440" cy="3468960"/>
          </a:xfrm>
          <a:prstGeom prst="rect">
            <a:avLst/>
          </a:prstGeom>
          <a:ln w="0">
            <a:noFill/>
          </a:ln>
        </p:spPr>
      </p:pic>
      <p:sp>
        <p:nvSpPr>
          <p:cNvPr id="1187" name=""/>
          <p:cNvSpPr/>
          <p:nvPr/>
        </p:nvSpPr>
        <p:spPr>
          <a:xfrm>
            <a:off x="5943600" y="54100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PR out to Barber-Nich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SzPct val="11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Long lead item (6 month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/>
          <p:nvPr/>
        </p:nvSpPr>
        <p:spPr>
          <a:xfrm>
            <a:off x="0" y="993600"/>
            <a:ext cx="9144000" cy="49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2" marL="457200" indent="-22860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22860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804960" indent="-23040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804960" indent="-23040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027080" indent="28908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804960" indent="-23040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0" y="40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ar term work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0" y="777960"/>
            <a:ext cx="91440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2" marL="457200" indent="-22860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2286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development of counter current fluid exchange apparatus, including the PVP condensation reaction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2286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design and test the scaleup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r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2286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ine last fluid exchanges of capsule drying to improve y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2286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 studies for improved full density overco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2286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development of sensor system for process control (switch to planer sour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804960" indent="-2304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 additional modifications to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027080" indent="289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ll rate of 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027080" indent="289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m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027080" indent="289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Concentri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2286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 with NI to determine best course for image analysis and apply towards real time character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"/>
          <p:cNvSpPr/>
          <p:nvPr/>
        </p:nvSpPr>
        <p:spPr>
          <a:xfrm>
            <a:off x="0" y="993600"/>
            <a:ext cx="9144000" cy="49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2" marL="457200" indent="-22860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22860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804960" indent="-23040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804960" indent="-23040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027080" indent="28908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804960" indent="-230400">
              <a:lnSpc>
                <a:spcPct val="100000"/>
              </a:lnSpc>
              <a:spcAft>
                <a:spcPts val="34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0" y="40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and Future Consid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0" y="685800"/>
            <a:ext cx="91440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lvl="2" marL="415800" indent="-20772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15800" indent="-20772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15800" indent="-20772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design of a continuous flow apparatus for mass production of the DVB/PVP, foam capsule, including apparatus to prevent capsules sticking together during the polycondensation reaction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15800" indent="-20772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ing a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ritical point drying for larger scale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15800" indent="-20772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ining PVP overcoat chemistry to improve bo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15800" indent="-20772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ed, fabricated and tested a system to quantify capsule rate of formation, working towards the goal of scaleup and process control for mass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15800" indent="-20772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Future Consid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15800" indent="-20772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face smoothness, gas retentiveness and buckling pressure of DVB/PVP targ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15800" indent="-20772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yogenic study of 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15800" indent="-20772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-time characterization stu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32240" indent="-20952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ying correlations between wet and dry caps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32240" indent="-20952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 RF foam shells demonstrate about a 5% shrinkage from wet to dry, what is it for overcoated DVB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34560" indent="2628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34560" indent="2628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319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777960"/>
            <a:ext cx="9144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lvl="2" marL="251280" indent="-12564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6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r Objecti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6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 mass production methods for IFE targets, identifying the processes to increase from laboratory scale to 500,000 plus targets per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6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640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the last HAPL meeting, we have been addressing the issues o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51280" indent="-12564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ous flow apparatus for mass production of the Divinylbenzene/Polyvinylphenol, DVB/PVP, foam caps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51280" indent="-12564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sules sticking together during the polycondensation reaction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51280" indent="-12564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ritical point drying and dehydration flu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51280" indent="-12564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VP overcoat bonding to DVB fo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251280" indent="-125640">
              <a:lnSpc>
                <a:spcPct val="100000"/>
              </a:lnSpc>
              <a:spcAft>
                <a:spcPts val="499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eup and process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679320"/>
            <a:ext cx="91440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0000"/>
          </a:bodyPr>
          <a:p>
            <a:pPr lvl="2" marL="365760" indent="-1828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65760" indent="-1828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flow through tube design decreases the amount of handling to which a capsule is subj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65760" indent="-1828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er current fluid exchange can be utilized throughout the continuous flow process, utilizes porous Teflon to facilitate fluid ex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643680" indent="-18432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shing steps for switch to PVP chemistry from DVB chemi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643680" indent="-18432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hydration before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rying:  Water to I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8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re applying counter current fluid exchange method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-182520" y="3271680"/>
            <a:ext cx="9326520" cy="2524320"/>
            <a:chOff x="-182520" y="3271680"/>
            <a:chExt cx="9326520" cy="2524320"/>
          </a:xfrm>
        </p:grpSpPr>
        <p:grpSp>
          <p:nvGrpSpPr>
            <p:cNvPr id="153" name=""/>
            <p:cNvGrpSpPr/>
            <p:nvPr/>
          </p:nvGrpSpPr>
          <p:grpSpPr>
            <a:xfrm>
              <a:off x="1801800" y="4296960"/>
              <a:ext cx="914400" cy="547920"/>
              <a:chOff x="1801800" y="4296960"/>
              <a:chExt cx="914400" cy="547920"/>
            </a:xfrm>
          </p:grpSpPr>
          <p:sp>
            <p:nvSpPr>
              <p:cNvPr id="154" name=""/>
              <p:cNvSpPr/>
              <p:nvPr/>
            </p:nvSpPr>
            <p:spPr>
              <a:xfrm>
                <a:off x="1801800" y="447984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01800" y="46623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2259000" y="429696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259000" y="42973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716200" y="429732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59000" y="466236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2259000" y="48448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2716200" y="466200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259000" y="4479840"/>
                <a:ext cx="457200" cy="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259000" y="4662360"/>
                <a:ext cx="457200" cy="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2716200" y="4296960"/>
              <a:ext cx="914400" cy="547920"/>
              <a:chOff x="2716200" y="4296960"/>
              <a:chExt cx="914400" cy="547920"/>
            </a:xfrm>
          </p:grpSpPr>
          <p:sp>
            <p:nvSpPr>
              <p:cNvPr id="165" name=""/>
              <p:cNvSpPr/>
              <p:nvPr/>
            </p:nvSpPr>
            <p:spPr>
              <a:xfrm>
                <a:off x="2716200" y="447984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716200" y="46623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73400" y="429696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173400" y="42973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630600" y="429732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173400" y="466236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173400" y="48448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3630600" y="466200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173400" y="4479840"/>
                <a:ext cx="457200" cy="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73400" y="4662360"/>
                <a:ext cx="457200" cy="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630600" y="4296960"/>
              <a:ext cx="914400" cy="547920"/>
              <a:chOff x="3630600" y="4296960"/>
              <a:chExt cx="914400" cy="547920"/>
            </a:xfrm>
          </p:grpSpPr>
          <p:sp>
            <p:nvSpPr>
              <p:cNvPr id="176" name=""/>
              <p:cNvSpPr/>
              <p:nvPr/>
            </p:nvSpPr>
            <p:spPr>
              <a:xfrm>
                <a:off x="3630600" y="447984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30600" y="46623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4087800" y="429696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087800" y="42973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545000" y="429732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087800" y="466236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087800" y="48448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4545000" y="466200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087800" y="4479840"/>
                <a:ext cx="457200" cy="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087800" y="4662360"/>
                <a:ext cx="457200" cy="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545000" y="4296960"/>
              <a:ext cx="914400" cy="547920"/>
              <a:chOff x="4545000" y="4296960"/>
              <a:chExt cx="914400" cy="547920"/>
            </a:xfrm>
          </p:grpSpPr>
          <p:sp>
            <p:nvSpPr>
              <p:cNvPr id="187" name=""/>
              <p:cNvSpPr/>
              <p:nvPr/>
            </p:nvSpPr>
            <p:spPr>
              <a:xfrm>
                <a:off x="4545000" y="447984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545000" y="46623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5002200" y="429696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002200" y="42973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459400" y="429732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002200" y="466236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2200" y="48448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5459400" y="466200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002200" y="4479840"/>
                <a:ext cx="457200" cy="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002200" y="4662360"/>
                <a:ext cx="457200" cy="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5459400" y="4296960"/>
              <a:ext cx="914400" cy="547920"/>
              <a:chOff x="5459400" y="4296960"/>
              <a:chExt cx="914400" cy="547920"/>
            </a:xfrm>
          </p:grpSpPr>
          <p:sp>
            <p:nvSpPr>
              <p:cNvPr id="198" name=""/>
              <p:cNvSpPr/>
              <p:nvPr/>
            </p:nvSpPr>
            <p:spPr>
              <a:xfrm>
                <a:off x="5459400" y="447984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459400" y="46623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916600" y="429696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916600" y="42973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373800" y="429732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916600" y="466236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16600" y="48448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6373800" y="466200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916600" y="4479840"/>
                <a:ext cx="457200" cy="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916600" y="4662360"/>
                <a:ext cx="457200" cy="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6373800" y="4296960"/>
              <a:ext cx="914400" cy="547920"/>
              <a:chOff x="6373800" y="4296960"/>
              <a:chExt cx="914400" cy="547920"/>
            </a:xfrm>
          </p:grpSpPr>
          <p:sp>
            <p:nvSpPr>
              <p:cNvPr id="209" name=""/>
              <p:cNvSpPr/>
              <p:nvPr/>
            </p:nvSpPr>
            <p:spPr>
              <a:xfrm>
                <a:off x="6373800" y="447984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373800" y="46623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6831000" y="429696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831000" y="42973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288200" y="429732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831000" y="466236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831000" y="48448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7288200" y="466200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831000" y="4479840"/>
                <a:ext cx="457200" cy="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831000" y="4662360"/>
                <a:ext cx="457200" cy="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>
              <a:off x="7288200" y="447984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88200" y="4662360"/>
              <a:ext cx="45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008760" y="4846680"/>
              <a:ext cx="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351160" y="4846680"/>
              <a:ext cx="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79960" y="3932280"/>
              <a:ext cx="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7196040" y="3932280"/>
              <a:ext cx="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4179960" y="3932280"/>
              <a:ext cx="301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67240" y="4846680"/>
              <a:ext cx="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2351160" y="5211720"/>
              <a:ext cx="301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3538440" y="3932280"/>
              <a:ext cx="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1801800" y="3932280"/>
              <a:ext cx="173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05240" y="5221080"/>
              <a:ext cx="259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9080" indent="225360"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 L/h 100% IP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278080" y="5259240"/>
              <a:ext cx="28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9080" indent="225360"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 L/h 80% IP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73400" y="342396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9080" indent="225360"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 L/h 90% IP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34920" y="342396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9080" indent="225360"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 L/h 70% IP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87560" y="4557600"/>
              <a:ext cx="63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835280" y="451944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36600" y="452592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43320" y="451800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32040" y="451800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033720" y="452412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340080" y="451620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54360" y="451476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56040" y="4521240"/>
              <a:ext cx="90720" cy="91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62400" y="4513320"/>
              <a:ext cx="90720" cy="91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51120" y="4521240"/>
              <a:ext cx="90720" cy="91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52800" y="452736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59160" y="451944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269120" y="452412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570800" y="453060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75240" y="4521240"/>
              <a:ext cx="90720" cy="91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676920" y="452736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83280" y="451944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72000" y="452268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73680" y="4529160"/>
              <a:ext cx="90720" cy="91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80040" y="4521240"/>
              <a:ext cx="90720" cy="91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724880" y="4329000"/>
              <a:ext cx="1419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9080" indent="225360"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 L/h ~ 100% IP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781760" y="4564080"/>
              <a:ext cx="54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-182520" y="4209840"/>
              <a:ext cx="1724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9080" indent="225360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 L/h 70% IP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98520" y="3271680"/>
              <a:ext cx="6667560" cy="252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27240" y="3286080"/>
              <a:ext cx="6824520" cy="2481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620640" y="6046920"/>
            <a:ext cx="2684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868320"/>
            <a:ext cx="91440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2" marL="457200" indent="-22860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2286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se apparatus to control shell sepa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2286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pressure drop tubing creates a smooth inlet of fluid into the main flow stream, separating the caps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-3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re developing methods to prevent sticking of capsules during the PVP condensation re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0" y="2757600"/>
            <a:ext cx="9448920" cy="2355480"/>
            <a:chOff x="0" y="2757600"/>
            <a:chExt cx="9448920" cy="2355480"/>
          </a:xfrm>
        </p:grpSpPr>
        <p:sp>
          <p:nvSpPr>
            <p:cNvPr id="264" name=""/>
            <p:cNvSpPr/>
            <p:nvPr/>
          </p:nvSpPr>
          <p:spPr>
            <a:xfrm>
              <a:off x="5226120" y="4103640"/>
              <a:ext cx="2378160" cy="45684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79840" y="3371760"/>
              <a:ext cx="184320" cy="2743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397320" y="3646440"/>
              <a:ext cx="1828800" cy="137124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568520" y="409392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68520" y="455112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3397320" y="3646440"/>
              <a:ext cx="0" cy="44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397320" y="4550760"/>
              <a:ext cx="0" cy="44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226120" y="3646440"/>
              <a:ext cx="0" cy="44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5237280" y="4561920"/>
              <a:ext cx="0" cy="44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97320" y="4994280"/>
              <a:ext cx="1828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97320" y="4093920"/>
              <a:ext cx="182880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97320" y="4551120"/>
              <a:ext cx="1828800" cy="0"/>
            </a:xfrm>
            <a:prstGeom prst="line">
              <a:avLst/>
            </a:prstGeom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762360" y="3646440"/>
              <a:ext cx="1463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97320" y="3646440"/>
              <a:ext cx="18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3579840" y="3363840"/>
              <a:ext cx="0" cy="27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3762360" y="3371760"/>
              <a:ext cx="0" cy="27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33560" y="4195800"/>
              <a:ext cx="276480" cy="28368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00400" y="4195800"/>
              <a:ext cx="276120" cy="28368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65440" y="4195800"/>
              <a:ext cx="276480" cy="28368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32280" y="4195800"/>
              <a:ext cx="276120" cy="28368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489480" y="4195800"/>
              <a:ext cx="276120" cy="28368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037040" y="4195800"/>
              <a:ext cx="276480" cy="28368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76760" y="4195800"/>
              <a:ext cx="276480" cy="28368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408640" y="4195800"/>
              <a:ext cx="276480" cy="2836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232680" y="4195800"/>
              <a:ext cx="276120" cy="283680"/>
            </a:xfrm>
            <a:prstGeom prst="ellipse">
              <a:avLst/>
            </a:prstGeom>
            <a:solidFill>
              <a:srgbClr val="ff0000"/>
            </a:solidFill>
            <a:ln w="316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147080" y="4195800"/>
              <a:ext cx="276120" cy="28368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568520" y="4195800"/>
              <a:ext cx="276120" cy="28368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03480" y="4286160"/>
              <a:ext cx="27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672000" y="3189240"/>
              <a:ext cx="0" cy="27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604280" y="4286160"/>
              <a:ext cx="274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4494240" y="3463920"/>
              <a:ext cx="1098720" cy="63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045040" y="294624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9080" indent="225360"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rous Teflon tubing high pressure dr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1660680" y="4363560"/>
              <a:ext cx="701640" cy="37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26120" y="4560840"/>
              <a:ext cx="237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226120" y="4103640"/>
              <a:ext cx="2378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1240" y="397656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 L/h Wa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848720" y="397656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 L/h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0" y="474480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9080" indent="225360"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ard DVB shel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14600" y="275760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 L/h PVP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4022640" y="744480"/>
            <a:ext cx="5121360" cy="21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2" marL="457200" indent="-228600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2286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er flow column design uses s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2286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ble at “non-sticking” stages and for large quant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2286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iginally designed for ceramic fuel particle ex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027080" indent="28908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40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 flow column may also be useful for ext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-668160" y="1081080"/>
            <a:ext cx="4937040" cy="5564160"/>
            <a:chOff x="-668160" y="1081080"/>
            <a:chExt cx="4937040" cy="5564160"/>
          </a:xfrm>
        </p:grpSpPr>
        <p:sp>
          <p:nvSpPr>
            <p:cNvPr id="306" name=""/>
            <p:cNvSpPr/>
            <p:nvPr/>
          </p:nvSpPr>
          <p:spPr>
            <a:xfrm flipH="1">
              <a:off x="611280" y="4086360"/>
              <a:ext cx="7920" cy="134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01800" y="5754960"/>
              <a:ext cx="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335240" y="5743800"/>
              <a:ext cx="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1280" y="5430960"/>
              <a:ext cx="303120" cy="33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335240" y="5430960"/>
              <a:ext cx="288720" cy="31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047960" y="5743800"/>
              <a:ext cx="0" cy="522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90880" y="5743800"/>
              <a:ext cx="0" cy="41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047960" y="6265800"/>
              <a:ext cx="9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90880" y="6161040"/>
              <a:ext cx="72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1621080" y="5221440"/>
              <a:ext cx="29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1627200" y="5116680"/>
              <a:ext cx="43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1620720" y="5221440"/>
              <a:ext cx="612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14520" y="2757600"/>
              <a:ext cx="1440" cy="13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06480" y="4411800"/>
              <a:ext cx="0" cy="31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39920" y="4400640"/>
              <a:ext cx="0" cy="31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5960" y="4086360"/>
              <a:ext cx="301680" cy="326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339560" y="4086360"/>
              <a:ext cx="28908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052640" y="4400640"/>
              <a:ext cx="0" cy="5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95560" y="4400640"/>
              <a:ext cx="0" cy="417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52640" y="4923000"/>
              <a:ext cx="1014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195560" y="4818240"/>
              <a:ext cx="72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1619280" y="3773520"/>
              <a:ext cx="43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626840" y="3878280"/>
              <a:ext cx="4680" cy="2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15960" y="1555920"/>
              <a:ext cx="3240" cy="120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08280" y="3083040"/>
              <a:ext cx="0" cy="31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341360" y="3071880"/>
              <a:ext cx="0" cy="31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19200" y="2757600"/>
              <a:ext cx="289080" cy="33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1341000" y="2757600"/>
              <a:ext cx="29052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54080" y="3071880"/>
              <a:ext cx="0" cy="52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98800" y="3071880"/>
              <a:ext cx="0" cy="41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054080" y="3594240"/>
              <a:ext cx="58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1633320" y="2444760"/>
              <a:ext cx="43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627200" y="1555920"/>
              <a:ext cx="6480" cy="88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1622160" y="2556000"/>
              <a:ext cx="4680" cy="20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21080" y="2757600"/>
              <a:ext cx="0" cy="73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629000" y="3594240"/>
              <a:ext cx="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621080" y="4086360"/>
              <a:ext cx="0" cy="73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21080" y="4923000"/>
              <a:ext cx="0" cy="19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078280" y="2490840"/>
              <a:ext cx="272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2049120" y="3532320"/>
              <a:ext cx="273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52680" y="262908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4600" y="2748240"/>
              <a:ext cx="90360" cy="91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95600" y="2632320"/>
              <a:ext cx="90360" cy="91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00280" y="284652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932040" y="276228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30240" y="335124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17880" y="317520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228680" y="303372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35280" y="316548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238400" y="361476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274760" y="2756160"/>
              <a:ext cx="90720" cy="91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444680" y="274176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278000" y="253692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28880" y="254160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46480" y="210204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305000" y="289404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500120" y="259416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25480" y="247824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08000" y="266076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90880" y="284328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28800" y="293688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225800" y="329724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963720" y="2419560"/>
              <a:ext cx="90360" cy="91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77920" y="243684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146240" y="260208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112760" y="1895760"/>
              <a:ext cx="90720" cy="91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06400" y="213516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52680" y="184788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0880" y="395460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12800" y="4073760"/>
              <a:ext cx="90720" cy="91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93800" y="395784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98480" y="417204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30240" y="408780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28800" y="474048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930240" y="458964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227240" y="435924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33480" y="4383360"/>
              <a:ext cx="90720" cy="91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236600" y="494028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273320" y="4081680"/>
              <a:ext cx="90360" cy="91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43240" y="406728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276560" y="386244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027080" y="386712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69920" y="411336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303560" y="421956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11360" y="368316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24040" y="380376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006560" y="398628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89080" y="416880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27360" y="426240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36600" y="466092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62280" y="374508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76480" y="376236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44800" y="392760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46080" y="304344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370160" y="3949920"/>
              <a:ext cx="90360" cy="91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05040" y="389736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38280" y="529452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00200" y="541332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81200" y="5297760"/>
              <a:ext cx="90360" cy="91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85880" y="551196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17640" y="542772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216080" y="582156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214640" y="569916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60720" y="5421600"/>
              <a:ext cx="90360" cy="91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430280" y="540720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63600" y="520236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014480" y="520704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457280" y="497700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290600" y="555948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486080" y="5259600"/>
              <a:ext cx="90360" cy="91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74800" y="5042160"/>
              <a:ext cx="90360" cy="91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993960" y="532620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176480" y="550872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14400" y="560232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224000" y="600084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917640" y="489420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63880" y="510228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131840" y="526752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11320" y="5386680"/>
              <a:ext cx="90360" cy="91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38480" y="530244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89040" y="514188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763640" y="3367080"/>
              <a:ext cx="250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9080" indent="225360"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 L/h 80% IP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77960" y="375768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70120" y="363060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387440" y="380844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40080" y="3961080"/>
              <a:ext cx="90360" cy="91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05040" y="347040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74960" y="366552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01680" y="3481560"/>
              <a:ext cx="41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1640160" y="2552760"/>
              <a:ext cx="43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1607760" y="3479760"/>
              <a:ext cx="43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1614240" y="3594240"/>
              <a:ext cx="43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1626840" y="3880080"/>
              <a:ext cx="43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52720" y="3824280"/>
              <a:ext cx="27324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1621080" y="4819680"/>
              <a:ext cx="43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2075040" y="4859280"/>
              <a:ext cx="272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1626840" y="5219640"/>
              <a:ext cx="43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1607760" y="6159600"/>
              <a:ext cx="43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65320" y="5164200"/>
              <a:ext cx="273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2049120" y="6224760"/>
              <a:ext cx="273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763640" y="4662720"/>
              <a:ext cx="250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9080" indent="225360"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 L/h 90% IP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63640" y="6034320"/>
              <a:ext cx="250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9080" indent="225360"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 L/h 100% IP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144800" y="138600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-303120" y="1081080"/>
              <a:ext cx="250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9080" indent="225360"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 L/h ~70% IP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-668160" y="6276960"/>
              <a:ext cx="338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9080" indent="225360"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 ~ 100% L/h IP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992160" y="588168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763640" y="2320920"/>
              <a:ext cx="250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9080" indent="225360"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lute IPA out to reprocess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763640" y="3641760"/>
              <a:ext cx="250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9080" indent="225360"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lute IPA out to reprocess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763640" y="4977000"/>
              <a:ext cx="250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9080" indent="225360"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lute IPA out to reprocess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477040" y="5764320"/>
            <a:ext cx="2160360" cy="3902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ustrial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" descr="UOP5 Liquid/Liquid Extraction Unit"/>
          <p:cNvPicPr/>
          <p:nvPr/>
        </p:nvPicPr>
        <p:blipFill>
          <a:blip r:embed="rId1"/>
          <a:stretch/>
        </p:blipFill>
        <p:spPr>
          <a:xfrm>
            <a:off x="5627520" y="2925720"/>
            <a:ext cx="180036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0" y="934920"/>
            <a:ext cx="656280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2" marL="457200" indent="-2286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2286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y use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ritical point drying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804960" indent="-2304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use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remove solvent and dry the targets without damage resulting from surface tension change from exposure to a gas-liquid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2286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commercial units designed for semi-conductor or food indus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804960" indent="-2304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d process variables for these units are not ideal for foam capsule mass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027080" indent="289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lution of solvent is generally not quant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027080" indent="289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ure control is 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027080" indent="289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ze is optimized for specific industrial needs:       Not designed for large quantities of IFE targ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35820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led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ritical point drying is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537240" y="5006880"/>
            <a:ext cx="2306880" cy="6508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boratory Scale Syst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" descr="CPD"/>
          <p:cNvPicPr/>
          <p:nvPr/>
        </p:nvPicPr>
        <p:blipFill>
          <a:blip r:embed="rId1"/>
          <a:stretch/>
        </p:blipFill>
        <p:spPr>
          <a:xfrm>
            <a:off x="6532560" y="2247840"/>
            <a:ext cx="229248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0" y="593640"/>
            <a:ext cx="640080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9000"/>
          </a:bodyPr>
          <a:p>
            <a:pPr lvl="2" marL="223920" indent="-11196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3920" indent="-11196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 on a scaleup dryer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394200" indent="-1126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r volume, one section can handle thousands of caps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394200" indent="-1126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ure (~1.2 Ksi), temperature (~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ºC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release rate of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394200" indent="-1126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d process control/repea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394200" indent="-1126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y of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sed for each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502920" indent="1414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dy how solubility of liquid and supercritical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fects capsule pro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394200" indent="-1126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 underway, major components ident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3920" indent="-11196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ining different dehydration solvents for last fluid ex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394200" indent="-1126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ly I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394200" indent="-1126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oxane used previously, but has toxicity iss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394200" indent="-1126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be diethylphthalate, DEP, which might provide a smoother overcoat as we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-104040"/>
            <a:ext cx="9144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ining a scaled up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ryer design and last fluid exchanges before 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r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18280" y="5257800"/>
            <a:ext cx="2286000" cy="609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caleup dryer unit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6308640" y="1689120"/>
            <a:ext cx="2835360" cy="3569760"/>
            <a:chOff x="6308640" y="1689120"/>
            <a:chExt cx="2835360" cy="3569760"/>
          </a:xfrm>
        </p:grpSpPr>
        <p:sp>
          <p:nvSpPr>
            <p:cNvPr id="465" name=""/>
            <p:cNvSpPr/>
            <p:nvPr/>
          </p:nvSpPr>
          <p:spPr>
            <a:xfrm>
              <a:off x="6858000" y="1873080"/>
              <a:ext cx="0" cy="292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772400" y="1873080"/>
              <a:ext cx="0" cy="292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858000" y="18730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858000" y="480024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950160" y="2239560"/>
              <a:ext cx="730080" cy="9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950160" y="2422080"/>
              <a:ext cx="730080" cy="9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950160" y="2604600"/>
              <a:ext cx="730080" cy="9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950160" y="2787480"/>
              <a:ext cx="730080" cy="9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950160" y="2971440"/>
              <a:ext cx="730080" cy="9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950160" y="3153960"/>
              <a:ext cx="730080" cy="9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950160" y="3336480"/>
              <a:ext cx="730080" cy="9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950160" y="3519000"/>
              <a:ext cx="730080" cy="9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950160" y="3701880"/>
              <a:ext cx="730080" cy="9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950160" y="3885840"/>
              <a:ext cx="730080" cy="9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50160" y="4068360"/>
              <a:ext cx="730080" cy="9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950160" y="4250880"/>
              <a:ext cx="730080" cy="9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950160" y="4433400"/>
              <a:ext cx="730080" cy="90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950160" y="4616280"/>
              <a:ext cx="730080" cy="90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950160" y="2239560"/>
              <a:ext cx="0" cy="246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680240" y="2239560"/>
              <a:ext cx="0" cy="2468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223040" y="3061800"/>
              <a:ext cx="164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289080" indent="225360"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 in ta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308640" y="4890600"/>
              <a:ext cx="164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289080" indent="225360"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 in 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499520" y="1689120"/>
              <a:ext cx="1644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289080" indent="225360">
                <a:lnSpc>
                  <a:spcPct val="100000"/>
                </a:lnSpc>
                <a:spcBef>
                  <a:spcPts val="876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eve trays with capsu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7407360" y="2239560"/>
              <a:ext cx="822240" cy="82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499520" y="3974760"/>
              <a:ext cx="1644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289080" indent="225360" algn="ctr">
                <a:lnSpc>
                  <a:spcPct val="100000"/>
                </a:lnSpc>
                <a:spcBef>
                  <a:spcPts val="876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essure Vess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 flipV="1">
              <a:off x="7772400" y="3702960"/>
              <a:ext cx="365040" cy="36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784080"/>
            <a:ext cx="886932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2" marL="457200" indent="-2286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2286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mentioned, working towards a continuous flow apparatus to increase production of caps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2286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would finish with batch process 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ryers operating in parall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362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’s put it all togeth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0" y="2420640"/>
            <a:ext cx="8950320" cy="3586320"/>
            <a:chOff x="0" y="2420640"/>
            <a:chExt cx="8950320" cy="3586320"/>
          </a:xfrm>
        </p:grpSpPr>
        <p:sp>
          <p:nvSpPr>
            <p:cNvPr id="494" name=""/>
            <p:cNvSpPr/>
            <p:nvPr/>
          </p:nvSpPr>
          <p:spPr>
            <a:xfrm>
              <a:off x="4746600" y="2624040"/>
              <a:ext cx="457200" cy="1825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46600" y="2989080"/>
              <a:ext cx="457200" cy="1825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746600" y="2806560"/>
              <a:ext cx="1371600" cy="1825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935680" y="2989080"/>
              <a:ext cx="182520" cy="100656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203800" y="3355920"/>
              <a:ext cx="1646280" cy="1825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03800" y="3538440"/>
              <a:ext cx="182520" cy="4572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667560" y="3538440"/>
              <a:ext cx="182520" cy="4572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21280" y="3995640"/>
              <a:ext cx="547560" cy="4572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753160" y="3995640"/>
              <a:ext cx="547560" cy="4572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2460600" y="2623680"/>
              <a:ext cx="914400" cy="547920"/>
              <a:chOff x="2460600" y="2623680"/>
              <a:chExt cx="914400" cy="547920"/>
            </a:xfrm>
          </p:grpSpPr>
          <p:sp>
            <p:nvSpPr>
              <p:cNvPr id="504" name=""/>
              <p:cNvSpPr/>
              <p:nvPr/>
            </p:nvSpPr>
            <p:spPr>
              <a:xfrm>
                <a:off x="2460600" y="28065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60600" y="29890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2917800" y="262368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917800" y="262404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375000" y="262404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917800" y="298908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917800" y="317160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3375000" y="298872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917800" y="2806560"/>
                <a:ext cx="457200" cy="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917800" y="2989080"/>
                <a:ext cx="457200" cy="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5505480" y="2859120"/>
              <a:ext cx="90360" cy="91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157720" y="285084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822920" y="285732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003400" y="29890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003400" y="280656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068640" y="2847960"/>
              <a:ext cx="109440" cy="112680"/>
            </a:xfrm>
            <a:prstGeom prst="ellipse">
              <a:avLst/>
            </a:prstGeom>
            <a:solidFill>
              <a:srgbClr val="ff66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060640" y="2847960"/>
              <a:ext cx="109440" cy="112680"/>
            </a:xfrm>
            <a:prstGeom prst="ellips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400120" y="2840040"/>
              <a:ext cx="109800" cy="112680"/>
            </a:xfrm>
            <a:prstGeom prst="ellips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41760" y="2844720"/>
              <a:ext cx="109440" cy="112680"/>
            </a:xfrm>
            <a:prstGeom prst="ellipse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848040" y="2852640"/>
              <a:ext cx="109440" cy="11268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95800" y="2844720"/>
              <a:ext cx="109440" cy="11268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92440" y="2842920"/>
              <a:ext cx="109800" cy="113040"/>
            </a:xfrm>
            <a:prstGeom prst="ellipse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6" name=""/>
            <p:cNvGrpSpPr/>
            <p:nvPr/>
          </p:nvGrpSpPr>
          <p:grpSpPr>
            <a:xfrm>
              <a:off x="3360600" y="2628360"/>
              <a:ext cx="914400" cy="547920"/>
              <a:chOff x="3360600" y="2628360"/>
              <a:chExt cx="914400" cy="547920"/>
            </a:xfrm>
          </p:grpSpPr>
          <p:sp>
            <p:nvSpPr>
              <p:cNvPr id="527" name=""/>
              <p:cNvSpPr/>
              <p:nvPr/>
            </p:nvSpPr>
            <p:spPr>
              <a:xfrm>
                <a:off x="3360600" y="281124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3360600" y="29937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3817800" y="262836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817800" y="262872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275000" y="262872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3817800" y="299376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817800" y="31762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4275000" y="299340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817800" y="2811240"/>
                <a:ext cx="457200" cy="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3817800" y="2993760"/>
                <a:ext cx="457200" cy="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4289400" y="2623680"/>
              <a:ext cx="914400" cy="547920"/>
              <a:chOff x="4289400" y="2623680"/>
              <a:chExt cx="914400" cy="547920"/>
            </a:xfrm>
          </p:grpSpPr>
          <p:sp>
            <p:nvSpPr>
              <p:cNvPr id="538" name=""/>
              <p:cNvSpPr/>
              <p:nvPr/>
            </p:nvSpPr>
            <p:spPr>
              <a:xfrm>
                <a:off x="4289400" y="28065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289400" y="298908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4746600" y="262368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746600" y="262404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203800" y="262404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746600" y="298908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746600" y="317160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5203800" y="2988720"/>
                <a:ext cx="0" cy="182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746600" y="2806560"/>
                <a:ext cx="457200" cy="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746600" y="2989080"/>
                <a:ext cx="457200" cy="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8" name=""/>
            <p:cNvSpPr/>
            <p:nvPr/>
          </p:nvSpPr>
          <p:spPr>
            <a:xfrm>
              <a:off x="3460680" y="2840040"/>
              <a:ext cx="109440" cy="112680"/>
            </a:xfrm>
            <a:prstGeom prst="ellipse">
              <a:avLst/>
            </a:prstGeom>
            <a:solidFill>
              <a:srgbClr val="ff66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715080" y="4384440"/>
              <a:ext cx="90360" cy="9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202360" y="280512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208480" y="298908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935680" y="2989080"/>
              <a:ext cx="0" cy="36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118200" y="2806560"/>
              <a:ext cx="0" cy="54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19640" y="35384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37120" y="35384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118200" y="3995640"/>
              <a:ext cx="18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302520" y="39956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6117840" y="4452840"/>
              <a:ext cx="18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5752800" y="3995640"/>
              <a:ext cx="18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754600" y="39956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753160" y="4452840"/>
              <a:ext cx="18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5203440" y="3355920"/>
              <a:ext cx="73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6117840" y="3355920"/>
              <a:ext cx="73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88120" y="35384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205240" y="35384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386320" y="3995640"/>
              <a:ext cx="18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570640" y="39956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5385960" y="4452840"/>
              <a:ext cx="18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5020920" y="3995640"/>
              <a:ext cx="18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022720" y="39956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21280" y="4452840"/>
              <a:ext cx="18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850080" y="35384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67560" y="35384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48280" y="3995640"/>
              <a:ext cx="18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032600" y="39956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6848280" y="4452840"/>
              <a:ext cx="182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6482880" y="3995640"/>
              <a:ext cx="18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85040" y="39956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483240" y="4452840"/>
              <a:ext cx="18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5386320" y="35384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6118200" y="35384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5203800" y="3355560"/>
              <a:ext cx="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6850080" y="3355560"/>
              <a:ext cx="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888160" y="286056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978520" y="312876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977080" y="345744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624640" y="339084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97600" y="397980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259240" y="342576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816520" y="413532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256360" y="3835440"/>
              <a:ext cx="90360" cy="91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813280" y="427176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520" y="429876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983200" y="366048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880240" y="403992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364000" y="4114800"/>
              <a:ext cx="90720" cy="91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73840" y="3816360"/>
              <a:ext cx="90360" cy="91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004080" y="327636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995800" y="4130640"/>
              <a:ext cx="90720" cy="91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34040" y="430668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119640" y="4051080"/>
              <a:ext cx="9072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175440" y="4176720"/>
              <a:ext cx="90360" cy="9180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002280" y="4295520"/>
              <a:ext cx="90360" cy="921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5935680" y="5092200"/>
              <a:ext cx="0" cy="36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6118200" y="5092560"/>
              <a:ext cx="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6119640" y="44528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5937120" y="44528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5203440" y="5092560"/>
              <a:ext cx="73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6117840" y="5092560"/>
              <a:ext cx="731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5388120" y="44528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5205240" y="44528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6850080" y="44528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6667560" y="445284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5386320" y="49100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6118200" y="49100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203800" y="4910040"/>
              <a:ext cx="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850080" y="4910040"/>
              <a:ext cx="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5386320" y="545760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6118200" y="545760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386320" y="5457600"/>
              <a:ext cx="0" cy="54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667560" y="5457600"/>
              <a:ext cx="0" cy="549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5385960" y="6006960"/>
              <a:ext cx="1281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6667200" y="3995640"/>
              <a:ext cx="18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589720" y="5627520"/>
              <a:ext cx="90360" cy="9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83200" y="4298760"/>
              <a:ext cx="90720" cy="9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551640" y="4309920"/>
              <a:ext cx="90360" cy="9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708600" y="4714560"/>
              <a:ext cx="90720" cy="9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719760" y="4884480"/>
              <a:ext cx="90720" cy="9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330960" y="4965480"/>
              <a:ext cx="90360" cy="9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973840" y="5078160"/>
              <a:ext cx="90360" cy="9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97600" y="5432400"/>
              <a:ext cx="90360" cy="91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778360" y="5860800"/>
              <a:ext cx="90720" cy="9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246720" y="5796000"/>
              <a:ext cx="90720" cy="91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423120" y="5540400"/>
              <a:ext cx="90360" cy="91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564160" y="5494320"/>
              <a:ext cx="90360" cy="91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46680" y="5676840"/>
              <a:ext cx="90360" cy="9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986440" y="5713200"/>
              <a:ext cx="90360" cy="9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73880" y="5806800"/>
              <a:ext cx="90360" cy="9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537160" y="5784840"/>
              <a:ext cx="90360" cy="91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745240" y="5554440"/>
              <a:ext cx="90360" cy="9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908680" y="5578200"/>
              <a:ext cx="90360" cy="9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065640" y="5538600"/>
              <a:ext cx="90720" cy="9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54640" y="5619600"/>
              <a:ext cx="90720" cy="9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481800" y="5649840"/>
              <a:ext cx="90360" cy="9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365880" y="5857560"/>
              <a:ext cx="90360" cy="9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75400" y="4086000"/>
              <a:ext cx="90360" cy="9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224400" y="5500440"/>
              <a:ext cx="90720" cy="9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441760" y="5651280"/>
              <a:ext cx="90720" cy="9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656320" y="5865840"/>
              <a:ext cx="90360" cy="91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65880" y="5717880"/>
              <a:ext cx="90360" cy="9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122880" y="5690880"/>
              <a:ext cx="90720" cy="9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43600" y="5848200"/>
              <a:ext cx="90360" cy="92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119640" y="5846760"/>
              <a:ext cx="90720" cy="91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5935320" y="4452840"/>
              <a:ext cx="18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5203440" y="4452840"/>
              <a:ext cx="182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97240" y="3171600"/>
              <a:ext cx="0" cy="18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3009960" y="3355920"/>
              <a:ext cx="11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3009960" y="3171600"/>
              <a:ext cx="0" cy="184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38760" y="2441520"/>
              <a:ext cx="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820880" y="3330360"/>
              <a:ext cx="30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289080" indent="225360"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ashes/Exchang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268880" y="2420640"/>
              <a:ext cx="425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289080" indent="225360"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densation Rea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716440" y="5021640"/>
              <a:ext cx="323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289080" indent="225360" algn="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Extra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0" y="2422440"/>
              <a:ext cx="30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marL="289080" indent="225360"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VB foam capsul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274680" y="3703680"/>
            <a:ext cx="4662360" cy="28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2" marL="457200" indent="-22860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2286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would switch back to semi-batch mode during critical point dry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57200" indent="-2286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ous flow apparatus most likely not required for this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4114800" y="593640"/>
            <a:ext cx="502920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lvl="2" marL="415800" indent="-207720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415800" indent="-20772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the overcoat forms, data indicates it has a tendency to form outwards from foam p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415800" indent="-20772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kely a result of PVP polymer chain cross linking, preventing remaining PVP from getting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415800" indent="-20772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se overcoat may lead to the following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32240" indent="-20952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or gas ret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32240" indent="-20952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y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32240" indent="-20952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istering during chamber inj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415800" indent="-207720">
              <a:lnSpc>
                <a:spcPct val="100000"/>
              </a:lnSpc>
              <a:spcAft>
                <a:spcPts val="400"/>
              </a:spcAft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mining a method to improve linking of PVP overcoat onto DVB foam capsule by growing the full density overcoat inw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-32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ining condensation chemistry to better attach CH full density overcoat to DVB foam sh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22240" y="2057400"/>
            <a:ext cx="15408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851040" y="13255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V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182520" y="1700280"/>
            <a:ext cx="2827080" cy="4436640"/>
            <a:chOff x="182520" y="1700280"/>
            <a:chExt cx="2827080" cy="4436640"/>
          </a:xfrm>
        </p:grpSpPr>
        <p:grpSp>
          <p:nvGrpSpPr>
            <p:cNvPr id="670" name=""/>
            <p:cNvGrpSpPr/>
            <p:nvPr/>
          </p:nvGrpSpPr>
          <p:grpSpPr>
            <a:xfrm>
              <a:off x="201600" y="4135680"/>
              <a:ext cx="2808000" cy="2001240"/>
              <a:chOff x="201600" y="4135680"/>
              <a:chExt cx="2808000" cy="2001240"/>
            </a:xfrm>
          </p:grpSpPr>
          <p:sp>
            <p:nvSpPr>
              <p:cNvPr id="671" name=""/>
              <p:cNvSpPr/>
              <p:nvPr/>
            </p:nvSpPr>
            <p:spPr>
              <a:xfrm>
                <a:off x="2756520" y="4597920"/>
                <a:ext cx="165240" cy="11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84040" y="4163400"/>
                <a:ext cx="440640" cy="439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390320" y="4172040"/>
                <a:ext cx="439920" cy="439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491200" y="4172040"/>
                <a:ext cx="440640" cy="439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33640" y="4172040"/>
                <a:ext cx="275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040" y="4933440"/>
                <a:ext cx="440640" cy="440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1385280" y="4933440"/>
                <a:ext cx="440640" cy="440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486880" y="4933440"/>
                <a:ext cx="439920" cy="440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29320" y="4933440"/>
                <a:ext cx="275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720" y="5696280"/>
                <a:ext cx="439920" cy="440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380600" y="5696280"/>
                <a:ext cx="440640" cy="440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482560" y="5696280"/>
                <a:ext cx="439920" cy="440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23920" y="5696280"/>
                <a:ext cx="275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01600" y="4135680"/>
                <a:ext cx="2808000" cy="82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74640" y="422856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674640" y="420084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618840" y="420084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697320" y="426420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25040" y="433908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52040" y="4311000"/>
                <a:ext cx="5976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52040" y="426420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07840" y="429192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62560" y="427284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917280" y="4254480"/>
                <a:ext cx="5976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29360" y="425628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25040" y="420948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75440" y="422856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25840" y="420948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76240" y="419040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926640" y="422856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862560" y="423720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25040" y="439380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1403280" y="421128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380600" y="4239000"/>
                <a:ext cx="5976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463400" y="421128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1348560" y="421128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376280" y="426600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1352880" y="429372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80560" y="4283280"/>
                <a:ext cx="6012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935280" y="4264200"/>
                <a:ext cx="6012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91440" y="4245840"/>
                <a:ext cx="5868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45800" y="4226760"/>
                <a:ext cx="6012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100880" y="420768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293840" y="424764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239120" y="428328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83320" y="4320000"/>
                <a:ext cx="5976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28600" y="424764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94600" y="420084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945000" y="423900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80560" y="4247640"/>
                <a:ext cx="6012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233720" y="4247640"/>
                <a:ext cx="5976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293840" y="421992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239120" y="419220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1779840" y="420084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779840" y="4173840"/>
                <a:ext cx="5976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803240" y="423720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1830600" y="4311000"/>
                <a:ext cx="5976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1858320" y="428328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1858320" y="423720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913040" y="426420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1968840" y="424584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023560" y="422676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1835640" y="422856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830600" y="418176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881000" y="420084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931040" y="4181760"/>
                <a:ext cx="6012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1981800" y="4163400"/>
                <a:ext cx="5976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032200" y="420084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1968840" y="420948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1830600" y="436608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986840" y="4256280"/>
                <a:ext cx="5868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041560" y="4237200"/>
                <a:ext cx="6012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096640" y="4218120"/>
                <a:ext cx="6012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152080" y="419904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206800" y="4179960"/>
                <a:ext cx="6012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400120" y="421992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2344320" y="4256280"/>
                <a:ext cx="5976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9600" y="424584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2234880" y="421992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000160" y="4173840"/>
                <a:ext cx="5976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2051280" y="421128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986840" y="4219920"/>
                <a:ext cx="586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340000" y="421992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400120" y="419220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344320" y="4165200"/>
                <a:ext cx="5976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454840" y="427284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454840" y="421812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482560" y="424584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33640" y="4924080"/>
                <a:ext cx="275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201600" y="4796280"/>
                <a:ext cx="2808000" cy="1738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74640" y="4980600"/>
                <a:ext cx="59040" cy="3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74640" y="495288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18840" y="495288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697320" y="501624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25040" y="5091120"/>
                <a:ext cx="59040" cy="3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52040" y="5063040"/>
                <a:ext cx="5976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52040" y="501624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07840" y="504396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862560" y="502488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917280" y="5006880"/>
                <a:ext cx="5976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29360" y="5008680"/>
                <a:ext cx="59040" cy="3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25040" y="496152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75440" y="4980600"/>
                <a:ext cx="59040" cy="3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25840" y="496152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76240" y="494244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926640" y="4980600"/>
                <a:ext cx="59040" cy="3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2560" y="4989240"/>
                <a:ext cx="59040" cy="3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25040" y="514584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403280" y="496332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380600" y="4991040"/>
                <a:ext cx="5976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463400" y="496332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348560" y="496332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376280" y="501804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352880" y="504576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80560" y="5035320"/>
                <a:ext cx="6012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935280" y="5016240"/>
                <a:ext cx="6012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991440" y="4998240"/>
                <a:ext cx="5868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045800" y="4978800"/>
                <a:ext cx="60120" cy="3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100880" y="495972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293840" y="5000040"/>
                <a:ext cx="59040" cy="3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239120" y="503532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183320" y="5072040"/>
                <a:ext cx="59760" cy="3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128600" y="5000040"/>
                <a:ext cx="59040" cy="3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894600" y="495288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945000" y="499104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80560" y="5000040"/>
                <a:ext cx="60120" cy="3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233720" y="5000040"/>
                <a:ext cx="59760" cy="3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293840" y="497196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239120" y="494424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779840" y="495288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779840" y="4925880"/>
                <a:ext cx="5976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803240" y="4989240"/>
                <a:ext cx="59040" cy="3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830600" y="5063040"/>
                <a:ext cx="5976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858320" y="503532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858320" y="4989240"/>
                <a:ext cx="59040" cy="3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913040" y="501624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968840" y="499824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2023560" y="4978800"/>
                <a:ext cx="59040" cy="3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835640" y="4980600"/>
                <a:ext cx="59040" cy="3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830600" y="493344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881000" y="495288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931040" y="4933440"/>
                <a:ext cx="6012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981800" y="4915440"/>
                <a:ext cx="5976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032200" y="495288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968840" y="496152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830600" y="511812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986840" y="5008680"/>
                <a:ext cx="58680" cy="3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041560" y="4989240"/>
                <a:ext cx="60120" cy="3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096640" y="4970160"/>
                <a:ext cx="6012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152080" y="495108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206800" y="4932000"/>
                <a:ext cx="6012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400120" y="497196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344320" y="5008680"/>
                <a:ext cx="59760" cy="3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289600" y="499824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34880" y="497196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000160" y="4925880"/>
                <a:ext cx="5976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051280" y="496332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986840" y="4971960"/>
                <a:ext cx="586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340000" y="497196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400120" y="494424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344320" y="4917240"/>
                <a:ext cx="59760" cy="3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454840" y="502488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454840" y="497016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482560" y="499824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9320" y="5704920"/>
                <a:ext cx="275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33640" y="5694480"/>
                <a:ext cx="275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01600" y="5457240"/>
                <a:ext cx="2808000" cy="2840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74640" y="575172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74640" y="572400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618840" y="572400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97320" y="578736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725040" y="586152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52040" y="5834520"/>
                <a:ext cx="5976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52040" y="578736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07840" y="581544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62560" y="579636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917280" y="577692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29360" y="577872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25040" y="573264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775440" y="575172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25840" y="573264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76240" y="571356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926640" y="575172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62560" y="576036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725040" y="591696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403280" y="5734440"/>
                <a:ext cx="5976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380600" y="576144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463400" y="5734440"/>
                <a:ext cx="5976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348560" y="5734440"/>
                <a:ext cx="5976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376280" y="578916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352880" y="5817240"/>
                <a:ext cx="59760" cy="35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880560" y="5806800"/>
                <a:ext cx="6012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935280" y="5787360"/>
                <a:ext cx="6012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991440" y="5768280"/>
                <a:ext cx="586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045800" y="5749920"/>
                <a:ext cx="6012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100880" y="5730840"/>
                <a:ext cx="5976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293840" y="577008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239120" y="580680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1183320" y="5843160"/>
                <a:ext cx="5976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128600" y="577008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94600" y="572400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945000" y="576144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880560" y="5770080"/>
                <a:ext cx="6012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233720" y="577008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293840" y="574308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239120" y="571536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779840" y="572400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779840" y="569628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803240" y="576036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830600" y="5834520"/>
                <a:ext cx="5976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858320" y="580680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858320" y="576036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913040" y="578736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968840" y="576828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023560" y="574992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835640" y="575172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830600" y="570492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881000" y="572400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931040" y="5704920"/>
                <a:ext cx="6012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981800" y="568584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032200" y="572400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968840" y="573264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830600" y="588924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986840" y="5778720"/>
                <a:ext cx="586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041560" y="5760360"/>
                <a:ext cx="6012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096640" y="5741280"/>
                <a:ext cx="6012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152080" y="572220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206800" y="5703120"/>
                <a:ext cx="6012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400120" y="574308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344320" y="577872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9600" y="576828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2234880" y="574308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2000160" y="569628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2051280" y="573444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986840" y="5743080"/>
                <a:ext cx="5868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2340000" y="5743080"/>
                <a:ext cx="5976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400120" y="571536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2344320" y="5687640"/>
                <a:ext cx="5976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454840" y="579636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454840" y="5741280"/>
                <a:ext cx="59040" cy="35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482560" y="5768280"/>
                <a:ext cx="590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"/>
            <p:cNvGrpSpPr/>
            <p:nvPr/>
          </p:nvGrpSpPr>
          <p:grpSpPr>
            <a:xfrm>
              <a:off x="182520" y="1700280"/>
              <a:ext cx="2826720" cy="2202480"/>
              <a:chOff x="182520" y="1700280"/>
              <a:chExt cx="2826720" cy="2202480"/>
            </a:xfrm>
          </p:grpSpPr>
          <p:sp>
            <p:nvSpPr>
              <p:cNvPr id="913" name=""/>
              <p:cNvSpPr/>
              <p:nvPr/>
            </p:nvSpPr>
            <p:spPr>
              <a:xfrm>
                <a:off x="270720" y="3457080"/>
                <a:ext cx="446040" cy="4456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1387080" y="3457080"/>
                <a:ext cx="445680" cy="4456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2502360" y="3457080"/>
                <a:ext cx="446040" cy="4456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270720" y="2703600"/>
                <a:ext cx="446040" cy="4456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387080" y="2703600"/>
                <a:ext cx="445680" cy="4456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2502360" y="2703600"/>
                <a:ext cx="446040" cy="4456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215280" y="2703600"/>
                <a:ext cx="278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215280" y="3457080"/>
                <a:ext cx="278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70720" y="2547360"/>
                <a:ext cx="608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935640" y="2547360"/>
                <a:ext cx="608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00480" y="2500200"/>
                <a:ext cx="608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549800" y="2500200"/>
                <a:ext cx="608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940760" y="250020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301480" y="2583720"/>
                <a:ext cx="6048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61680" y="273096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61680" y="2703600"/>
                <a:ext cx="6048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605880" y="2703600"/>
                <a:ext cx="6084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991080" y="2602800"/>
                <a:ext cx="608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381680" y="2703600"/>
                <a:ext cx="6048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359000" y="2730960"/>
                <a:ext cx="608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442520" y="2703600"/>
                <a:ext cx="6048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325880" y="2703600"/>
                <a:ext cx="6084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353960" y="275904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331280" y="2786760"/>
                <a:ext cx="6048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469600" y="2703600"/>
                <a:ext cx="6084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2497320" y="273096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2525400" y="2703600"/>
                <a:ext cx="6048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2358360" y="2639160"/>
                <a:ext cx="6084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2414160" y="2694960"/>
                <a:ext cx="6084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469600" y="2759040"/>
                <a:ext cx="608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238320" y="271224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65680" y="273960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93760" y="271224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82520" y="2703600"/>
                <a:ext cx="6084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38320" y="276768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777320" y="273096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777320" y="2703600"/>
                <a:ext cx="6048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721880" y="2703600"/>
                <a:ext cx="6048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777320" y="277776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832760" y="272232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66720" y="3503880"/>
                <a:ext cx="5868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66720" y="3475800"/>
                <a:ext cx="586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11280" y="3475800"/>
                <a:ext cx="586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387080" y="347580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364040" y="3503880"/>
                <a:ext cx="5868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447560" y="3475800"/>
                <a:ext cx="608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331280" y="347580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359000" y="3531240"/>
                <a:ext cx="608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336680" y="3559320"/>
                <a:ext cx="5868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475000" y="347580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502360" y="3503880"/>
                <a:ext cx="6084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530440" y="347580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419560" y="346716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475000" y="353124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43360" y="348444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70720" y="3512520"/>
                <a:ext cx="6084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298800" y="348444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87920" y="347580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43360" y="353988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782360" y="3503880"/>
                <a:ext cx="5868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1782360" y="3475800"/>
                <a:ext cx="586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726920" y="3475800"/>
                <a:ext cx="586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782360" y="3550680"/>
                <a:ext cx="5868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837800" y="3495240"/>
                <a:ext cx="6084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89040" y="353988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17120" y="361476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44840" y="3586680"/>
                <a:ext cx="608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44840" y="3539880"/>
                <a:ext cx="608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00280" y="3567960"/>
                <a:ext cx="608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57520" y="3548520"/>
                <a:ext cx="586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912960" y="352980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968760" y="351036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024200" y="3491640"/>
                <a:ext cx="6084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079640" y="3472200"/>
                <a:ext cx="608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275840" y="3512520"/>
                <a:ext cx="6048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220040" y="3548520"/>
                <a:ext cx="586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163160" y="358524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107360" y="3512520"/>
                <a:ext cx="6048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98800" y="327960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963360" y="327960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628560" y="3232800"/>
                <a:ext cx="6048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577880" y="3232800"/>
                <a:ext cx="6048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968120" y="3232800"/>
                <a:ext cx="6048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2331000" y="3316320"/>
                <a:ext cx="60480" cy="38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018800" y="3335400"/>
                <a:ext cx="60480" cy="38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22160" y="353124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17120" y="348444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68960" y="3503880"/>
                <a:ext cx="6048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819360" y="348444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869760" y="3465720"/>
                <a:ext cx="6048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921600" y="3503880"/>
                <a:ext cx="6048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857520" y="3512520"/>
                <a:ext cx="5868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215000" y="3512520"/>
                <a:ext cx="6084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275840" y="348444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220040" y="3457080"/>
                <a:ext cx="5868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17120" y="367020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17120" y="3725640"/>
                <a:ext cx="60480" cy="381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899000" y="3521160"/>
                <a:ext cx="5868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954440" y="3501720"/>
                <a:ext cx="586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009880" y="3483000"/>
                <a:ext cx="5868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065320" y="346356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59720" y="3521160"/>
                <a:ext cx="6048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148840" y="348444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860840" y="3457080"/>
                <a:ext cx="6048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963080" y="347580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899000" y="3484440"/>
                <a:ext cx="586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256120" y="348444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832760" y="361476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827720" y="370836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76480" y="1903320"/>
                <a:ext cx="445680" cy="4456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2502360" y="1913400"/>
                <a:ext cx="446040" cy="4460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220680" y="1903320"/>
                <a:ext cx="278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76480" y="1747080"/>
                <a:ext cx="586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941040" y="174708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05880" y="1700280"/>
                <a:ext cx="608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553400" y="170028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943640" y="1700280"/>
                <a:ext cx="6084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2306520" y="1783440"/>
                <a:ext cx="6048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996480" y="1802520"/>
                <a:ext cx="60480" cy="363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2361960" y="1838880"/>
                <a:ext cx="60480" cy="36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360800" y="1906920"/>
                <a:ext cx="445680" cy="4456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4" name=""/>
          <p:cNvSpPr/>
          <p:nvPr/>
        </p:nvSpPr>
        <p:spPr>
          <a:xfrm>
            <a:off x="822240" y="1325520"/>
            <a:ext cx="1800" cy="5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822240" y="1874880"/>
            <a:ext cx="1800" cy="519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2743200" y="1692360"/>
            <a:ext cx="0" cy="2728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2193840" y="1325520"/>
            <a:ext cx="9288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DVB Foam Tendr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1828800" y="1325520"/>
            <a:ext cx="0" cy="536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463760" y="960480"/>
            <a:ext cx="8236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ter/Oil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3546360" y="2057400"/>
            <a:ext cx="0" cy="360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3565440" y="3429000"/>
            <a:ext cx="7272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2" name=""/>
          <p:cNvGrpSpPr/>
          <p:nvPr/>
        </p:nvGrpSpPr>
        <p:grpSpPr>
          <a:xfrm>
            <a:off x="4754520" y="4343400"/>
            <a:ext cx="1666800" cy="2222640"/>
            <a:chOff x="4754520" y="4343400"/>
            <a:chExt cx="1666800" cy="2222640"/>
          </a:xfrm>
        </p:grpSpPr>
        <p:grpSp>
          <p:nvGrpSpPr>
            <p:cNvPr id="1043" name=""/>
            <p:cNvGrpSpPr/>
            <p:nvPr/>
          </p:nvGrpSpPr>
          <p:grpSpPr>
            <a:xfrm>
              <a:off x="4983120" y="5014800"/>
              <a:ext cx="457200" cy="1143000"/>
              <a:chOff x="4983120" y="5014800"/>
              <a:chExt cx="457200" cy="1143000"/>
            </a:xfrm>
          </p:grpSpPr>
          <p:sp>
            <p:nvSpPr>
              <p:cNvPr id="1044" name=""/>
              <p:cNvSpPr/>
              <p:nvPr/>
            </p:nvSpPr>
            <p:spPr>
              <a:xfrm flipV="1">
                <a:off x="5211720" y="585324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rot="16200000">
                <a:off x="4944960" y="5357880"/>
                <a:ext cx="533520" cy="457200"/>
              </a:xfrm>
              <a:prstGeom prst="hexagon">
                <a:avLst>
                  <a:gd name="adj" fmla="val 29173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V="1">
                <a:off x="5211720" y="501480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rot="16200000">
                <a:off x="5059440" y="5427720"/>
                <a:ext cx="304920" cy="304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8" name=""/>
            <p:cNvSpPr/>
            <p:nvPr/>
          </p:nvSpPr>
          <p:spPr>
            <a:xfrm>
              <a:off x="5452920" y="43689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713560" y="6110280"/>
              <a:ext cx="70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838760" y="6108840"/>
              <a:ext cx="91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V="1">
              <a:off x="5311440" y="4613760"/>
              <a:ext cx="172440" cy="15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754520" y="4343400"/>
              <a:ext cx="1616040" cy="2222640"/>
            </a:xfrm>
            <a:prstGeom prst="rect">
              <a:avLst/>
            </a:pr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 flipV="1">
              <a:off x="5707800" y="4610520"/>
              <a:ext cx="172440" cy="15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056200" y="46911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42080" y="467352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spcAft>
                  <a:spcPts val="4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V="1">
              <a:off x="6082920" y="4588920"/>
              <a:ext cx="172080" cy="158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 flipV="1">
              <a:off x="4938120" y="4618440"/>
              <a:ext cx="172440" cy="158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8" name=""/>
            <p:cNvGrpSpPr/>
            <p:nvPr/>
          </p:nvGrpSpPr>
          <p:grpSpPr>
            <a:xfrm>
              <a:off x="5753160" y="5005080"/>
              <a:ext cx="457200" cy="1143000"/>
              <a:chOff x="5753160" y="5005080"/>
              <a:chExt cx="457200" cy="1143000"/>
            </a:xfrm>
          </p:grpSpPr>
          <p:sp>
            <p:nvSpPr>
              <p:cNvPr id="1059" name=""/>
              <p:cNvSpPr/>
              <p:nvPr/>
            </p:nvSpPr>
            <p:spPr>
              <a:xfrm flipV="1">
                <a:off x="5981760" y="5843520"/>
                <a:ext cx="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rot="16200000">
                <a:off x="5715000" y="5348160"/>
                <a:ext cx="533520" cy="457200"/>
              </a:xfrm>
              <a:prstGeom prst="hexagon">
                <a:avLst>
                  <a:gd name="adj" fmla="val 29173"/>
                  <a:gd name="vf" fmla="val 115470"/>
                </a:avLst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V="1">
                <a:off x="5981760" y="5005080"/>
                <a:ext cx="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rot="16200000">
                <a:off x="5829480" y="5418000"/>
                <a:ext cx="304920" cy="30492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3" name=""/>
          <p:cNvSpPr/>
          <p:nvPr/>
        </p:nvSpPr>
        <p:spPr>
          <a:xfrm>
            <a:off x="6583320" y="5075280"/>
            <a:ext cx="1281240" cy="3650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VP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925720" y="1692360"/>
            <a:ext cx="7272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925720" y="2514600"/>
            <a:ext cx="7272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925720" y="3246480"/>
            <a:ext cx="7272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925720" y="3978360"/>
            <a:ext cx="7272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925720" y="4708440"/>
            <a:ext cx="7272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925720" y="5440320"/>
            <a:ext cx="7272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0T23:56:02Z</dcterms:created>
  <dc:creator>.</dc:creator>
  <dc:description/>
  <dc:language>en-US</dc:language>
  <cp:lastModifiedBy>HAPL June 2004</cp:lastModifiedBy>
  <cp:lastPrinted>2004-05-28T20:57:12Z</cp:lastPrinted>
  <dcterms:modified xsi:type="dcterms:W3CDTF">2004-06-02T18:45:02Z</dcterms:modified>
  <cp:revision>423</cp:revision>
  <dc:subject/>
  <dc:title>No Slide Title</dc:title>
</cp:coreProperties>
</file>