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1FCB-9439-4AAB-8E41-48821356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3960" y="507240"/>
            <a:ext cx="8236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8120" y="1809720"/>
            <a:ext cx="82519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8120" y="4237920"/>
            <a:ext cx="82519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C734-2287-45E5-A62C-21CBACBF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3960" y="507240"/>
            <a:ext cx="8236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8120" y="1809720"/>
            <a:ext cx="40266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320" y="1809720"/>
            <a:ext cx="40266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38120" y="4237920"/>
            <a:ext cx="40266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320" y="4237920"/>
            <a:ext cx="40266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0AC-34AB-443C-8E4B-7D592193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3960" y="507240"/>
            <a:ext cx="8236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38120" y="1809720"/>
            <a:ext cx="26568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8120" y="1809720"/>
            <a:ext cx="26568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8120" y="1809720"/>
            <a:ext cx="26568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8120" y="4237920"/>
            <a:ext cx="26568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8120" y="4237920"/>
            <a:ext cx="26568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8120" y="4237920"/>
            <a:ext cx="26568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BAF-E361-4191-88E7-55A8512D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3960" y="507240"/>
            <a:ext cx="8236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38120" y="1809720"/>
            <a:ext cx="8251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9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A63-A267-432A-9FD2-FC1DD601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3960" y="507240"/>
            <a:ext cx="8236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8120" y="1809720"/>
            <a:ext cx="8251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109-628B-448C-83DC-2A57AD89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3960" y="507240"/>
            <a:ext cx="8236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8120" y="1809720"/>
            <a:ext cx="4026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809720"/>
            <a:ext cx="4026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79F-9036-4B05-BD63-66AA1D6B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3960" y="507240"/>
            <a:ext cx="8236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5B49-6FDA-40F5-A0B7-C4D9B77B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3960" y="565200"/>
            <a:ext cx="8236080" cy="15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998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B2CE-781C-42D4-9567-33236768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3960" y="507240"/>
            <a:ext cx="8236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8120" y="1809720"/>
            <a:ext cx="40266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809720"/>
            <a:ext cx="4026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8120" y="4237920"/>
            <a:ext cx="40266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C25-3AD2-45E3-97AA-FCF3199A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3960" y="507240"/>
            <a:ext cx="8236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8120" y="1809720"/>
            <a:ext cx="4026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320" y="1809720"/>
            <a:ext cx="40266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320" y="4237920"/>
            <a:ext cx="40266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2AC3-87C4-4CE3-91D3-27DC17E4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3960" y="507240"/>
            <a:ext cx="8236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38120" y="1809720"/>
            <a:ext cx="40266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320" y="1809720"/>
            <a:ext cx="402660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38120" y="4237920"/>
            <a:ext cx="82519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33E-4111-4AC0-9C35-94717E88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3960" y="1073160"/>
            <a:ext cx="8236080" cy="368280"/>
            <a:chOff x="453960" y="1073160"/>
            <a:chExt cx="8236080" cy="368280"/>
          </a:xfrm>
        </p:grpSpPr>
        <p:pic>
          <p:nvPicPr>
            <p:cNvPr id="1" name="LLElogo" descr=""/>
            <p:cNvPicPr/>
            <p:nvPr/>
          </p:nvPicPr>
          <p:blipFill>
            <a:blip r:embed="rId2"/>
            <a:stretch/>
          </p:blipFill>
          <p:spPr>
            <a:xfrm>
              <a:off x="7885080" y="1073160"/>
              <a:ext cx="80496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flipH="1">
              <a:off x="453960" y="1254240"/>
              <a:ext cx="8082000" cy="0"/>
            </a:xfrm>
            <a:prstGeom prst="line">
              <a:avLst/>
            </a:prstGeom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3960" y="565200"/>
            <a:ext cx="8236080" cy="333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38120" y="1809720"/>
            <a:ext cx="8251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marL="285840" indent="-285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33516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1040" indent="-33156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43280" indent="-22860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22860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22860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22860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1160" y="639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238880" y="639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EB21-8FD8-4E7A-B56F-066B16732B4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66880"/>
            <a:ext cx="8236080" cy="333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uterium Ice Layering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Target Injection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24120" y="5562360"/>
            <a:ext cx="21337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85840" indent="0" algn="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PL Mee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Angeles, C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June 200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762120"/>
            <a:ext cx="838224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638680"/>
            <a:ext cx="4114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anchorCtr="1">
            <a:normAutofit/>
          </a:bodyPr>
          <a:p>
            <a:pPr marL="285840" indent="-285840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R. Har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Roch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for Laser Energe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3960" y="565200"/>
            <a:ext cx="8236080" cy="333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te Carlo simulations allow the heat flux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 target to be defin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7120" y="1436400"/>
            <a:ext cx="82515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 fontScale="88000"/>
          </a:bodyPr>
          <a:p>
            <a:pPr marL="251280" indent="-25128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t load fro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94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—need to know temperature and flux of gas strik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arg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94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e condens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vapor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0.5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lay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know number flux and rate of monolayer 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aluating three gas dens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94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70 tor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00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94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76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5 tor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00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94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1 tor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00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aluating two target chamber tempera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94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0 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94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00 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aluating two target veloc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94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94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2760" y="6541920"/>
            <a:ext cx="28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19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3960" y="565200"/>
            <a:ext cx="8236080" cy="333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te Carlo calculation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00320" y="1425600"/>
            <a:ext cx="3351240" cy="1765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marL="285840" indent="-285840">
              <a:lnSpc>
                <a:spcPts val="19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mesh 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-ns time step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eraging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2.5-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interv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,000 to 1,000,000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ated molecu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95840" y="3314880"/>
            <a:ext cx="37339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sure distribution aroun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arget. Range: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4000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9440" y="1511280"/>
            <a:ext cx="4497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perature distribution around the targe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nge: 500 to 4000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033880" y="4479840"/>
            <a:ext cx="3154320" cy="1569960"/>
            <a:chOff x="5033880" y="4479840"/>
            <a:chExt cx="3154320" cy="1569960"/>
          </a:xfrm>
        </p:grpSpPr>
        <p:pic>
          <p:nvPicPr>
            <p:cNvPr id="258" name="T1928c" descr=""/>
            <p:cNvPicPr/>
            <p:nvPr/>
          </p:nvPicPr>
          <p:blipFill>
            <a:blip r:embed="rId1"/>
            <a:stretch/>
          </p:blipFill>
          <p:spPr>
            <a:xfrm>
              <a:off x="5033880" y="4479840"/>
              <a:ext cx="3154320" cy="15699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grpSp>
          <p:nvGrpSpPr>
            <p:cNvPr id="259" name=""/>
            <p:cNvGrpSpPr/>
            <p:nvPr/>
          </p:nvGrpSpPr>
          <p:grpSpPr>
            <a:xfrm>
              <a:off x="5824440" y="4479840"/>
              <a:ext cx="1571400" cy="109440"/>
              <a:chOff x="5824440" y="4479840"/>
              <a:chExt cx="1571400" cy="109440"/>
            </a:xfrm>
          </p:grpSpPr>
          <p:sp>
            <p:nvSpPr>
              <p:cNvPr id="260" name=""/>
              <p:cNvSpPr/>
              <p:nvPr/>
            </p:nvSpPr>
            <p:spPr>
              <a:xfrm flipV="1">
                <a:off x="5824440" y="447984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6609960" y="447984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7395840" y="447984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824440" y="5940360"/>
              <a:ext cx="1571400" cy="109440"/>
              <a:chOff x="5824440" y="5940360"/>
              <a:chExt cx="1571400" cy="109440"/>
            </a:xfrm>
          </p:grpSpPr>
          <p:sp>
            <p:nvSpPr>
              <p:cNvPr id="264" name=""/>
              <p:cNvSpPr/>
              <p:nvPr/>
            </p:nvSpPr>
            <p:spPr>
              <a:xfrm flipV="1">
                <a:off x="5824440" y="594036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6609960" y="594036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7395840" y="594036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8078760" y="4794120"/>
              <a:ext cx="109440" cy="942840"/>
              <a:chOff x="8078760" y="4794120"/>
              <a:chExt cx="109440" cy="942840"/>
            </a:xfrm>
          </p:grpSpPr>
          <p:sp>
            <p:nvSpPr>
              <p:cNvPr id="268" name=""/>
              <p:cNvSpPr/>
              <p:nvPr/>
            </p:nvSpPr>
            <p:spPr>
              <a:xfrm>
                <a:off x="8078760" y="47941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078760" y="51084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078760" y="5422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078760" y="57369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5033880" y="4794120"/>
              <a:ext cx="109440" cy="942840"/>
              <a:chOff x="5033880" y="4794120"/>
              <a:chExt cx="109440" cy="942840"/>
            </a:xfrm>
          </p:grpSpPr>
          <p:sp>
            <p:nvSpPr>
              <p:cNvPr id="273" name=""/>
              <p:cNvSpPr/>
              <p:nvPr/>
            </p:nvSpPr>
            <p:spPr>
              <a:xfrm>
                <a:off x="5033880" y="47941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033880" y="51084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033880" y="5422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033880" y="57369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4742640" y="6103800"/>
            <a:ext cx="3704760" cy="182880"/>
            <a:chOff x="4742640" y="6103800"/>
            <a:chExt cx="3704760" cy="182880"/>
          </a:xfrm>
        </p:grpSpPr>
        <p:sp>
          <p:nvSpPr>
            <p:cNvPr id="278" name=""/>
            <p:cNvSpPr/>
            <p:nvPr/>
          </p:nvSpPr>
          <p:spPr>
            <a:xfrm>
              <a:off x="6607800" y="6103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75520" y="610380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00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77240" y="610380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00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46160" y="610380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00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42640" y="610380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00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880200" y="6103800"/>
            <a:ext cx="3704760" cy="182880"/>
            <a:chOff x="880200" y="6103800"/>
            <a:chExt cx="3704760" cy="182880"/>
          </a:xfrm>
        </p:grpSpPr>
        <p:sp>
          <p:nvSpPr>
            <p:cNvPr id="284" name=""/>
            <p:cNvSpPr/>
            <p:nvPr/>
          </p:nvSpPr>
          <p:spPr>
            <a:xfrm>
              <a:off x="2745360" y="6103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13080" y="610380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00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14800" y="610380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00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83720" y="610380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00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80200" y="610380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00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200240" y="4451400"/>
            <a:ext cx="3162240" cy="1596960"/>
            <a:chOff x="1200240" y="4451400"/>
            <a:chExt cx="3162240" cy="1596960"/>
          </a:xfrm>
        </p:grpSpPr>
        <p:sp>
          <p:nvSpPr>
            <p:cNvPr id="290" name=""/>
            <p:cNvSpPr/>
            <p:nvPr/>
          </p:nvSpPr>
          <p:spPr>
            <a:xfrm>
              <a:off x="1592640" y="4492440"/>
              <a:ext cx="195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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3 x 10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19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1" name="T1928a" descr=""/>
            <p:cNvPicPr/>
            <p:nvPr/>
          </p:nvPicPr>
          <p:blipFill>
            <a:blip r:embed="rId2"/>
            <a:stretch/>
          </p:blipFill>
          <p:spPr>
            <a:xfrm>
              <a:off x="1200240" y="4451400"/>
              <a:ext cx="3162240" cy="15969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grpSp>
          <p:nvGrpSpPr>
            <p:cNvPr id="292" name=""/>
            <p:cNvGrpSpPr/>
            <p:nvPr/>
          </p:nvGrpSpPr>
          <p:grpSpPr>
            <a:xfrm>
              <a:off x="1995480" y="4451400"/>
              <a:ext cx="1571400" cy="109440"/>
              <a:chOff x="1995480" y="4451400"/>
              <a:chExt cx="1571400" cy="109440"/>
            </a:xfrm>
          </p:grpSpPr>
          <p:sp>
            <p:nvSpPr>
              <p:cNvPr id="293" name=""/>
              <p:cNvSpPr/>
              <p:nvPr/>
            </p:nvSpPr>
            <p:spPr>
              <a:xfrm flipV="1">
                <a:off x="1995480" y="445140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2781000" y="445140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3566880" y="445140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1995480" y="5938920"/>
              <a:ext cx="1571400" cy="109440"/>
              <a:chOff x="1995480" y="5938920"/>
              <a:chExt cx="1571400" cy="109440"/>
            </a:xfrm>
          </p:grpSpPr>
          <p:sp>
            <p:nvSpPr>
              <p:cNvPr id="297" name=""/>
              <p:cNvSpPr/>
              <p:nvPr/>
            </p:nvSpPr>
            <p:spPr>
              <a:xfrm flipV="1">
                <a:off x="1995480" y="59389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2781000" y="59389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3566880" y="59389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200240" y="4778280"/>
              <a:ext cx="109440" cy="942840"/>
              <a:chOff x="1200240" y="4778280"/>
              <a:chExt cx="109440" cy="942840"/>
            </a:xfrm>
          </p:grpSpPr>
          <p:sp>
            <p:nvSpPr>
              <p:cNvPr id="301" name=""/>
              <p:cNvSpPr/>
              <p:nvPr/>
            </p:nvSpPr>
            <p:spPr>
              <a:xfrm>
                <a:off x="1200240" y="4778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200240" y="50925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200240" y="54068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200240" y="57211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253040" y="4778280"/>
              <a:ext cx="109440" cy="942840"/>
              <a:chOff x="4253040" y="4778280"/>
              <a:chExt cx="109440" cy="942840"/>
            </a:xfrm>
          </p:grpSpPr>
          <p:sp>
            <p:nvSpPr>
              <p:cNvPr id="306" name=""/>
              <p:cNvSpPr/>
              <p:nvPr/>
            </p:nvSpPr>
            <p:spPr>
              <a:xfrm>
                <a:off x="4253040" y="4778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253040" y="50925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253040" y="54068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53040" y="57211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0" name=""/>
          <p:cNvSpPr/>
          <p:nvPr/>
        </p:nvSpPr>
        <p:spPr>
          <a:xfrm>
            <a:off x="1800360" y="4498920"/>
            <a:ext cx="19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9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78600" y="4352760"/>
            <a:ext cx="384840" cy="1778040"/>
            <a:chOff x="678600" y="4352760"/>
            <a:chExt cx="384840" cy="1778040"/>
          </a:xfrm>
        </p:grpSpPr>
        <p:sp>
          <p:nvSpPr>
            <p:cNvPr id="312" name=""/>
            <p:cNvSpPr/>
            <p:nvPr/>
          </p:nvSpPr>
          <p:spPr>
            <a:xfrm>
              <a:off x="678600" y="43527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78600" y="467172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78600" y="49906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8600" y="53100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8600" y="56289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78600" y="594792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 rot="16200000">
            <a:off x="-1800" y="5158800"/>
            <a:ext cx="91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78600" y="2362320"/>
            <a:ext cx="384840" cy="1706760"/>
            <a:chOff x="678600" y="2362320"/>
            <a:chExt cx="384840" cy="1706760"/>
          </a:xfrm>
        </p:grpSpPr>
        <p:sp>
          <p:nvSpPr>
            <p:cNvPr id="320" name=""/>
            <p:cNvSpPr/>
            <p:nvPr/>
          </p:nvSpPr>
          <p:spPr>
            <a:xfrm>
              <a:off x="678600" y="236232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8600" y="266724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8600" y="29718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8600" y="327672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8600" y="358164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8600" y="38862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200240" y="2455920"/>
            <a:ext cx="3144600" cy="1549440"/>
            <a:chOff x="1200240" y="2455920"/>
            <a:chExt cx="3144600" cy="1549440"/>
          </a:xfrm>
        </p:grpSpPr>
        <p:pic>
          <p:nvPicPr>
            <p:cNvPr id="327" name="T1928b" descr=""/>
            <p:cNvPicPr/>
            <p:nvPr/>
          </p:nvPicPr>
          <p:blipFill>
            <a:blip r:embed="rId3"/>
            <a:stretch/>
          </p:blipFill>
          <p:spPr>
            <a:xfrm>
              <a:off x="1200240" y="2455920"/>
              <a:ext cx="3144600" cy="15494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grpSp>
          <p:nvGrpSpPr>
            <p:cNvPr id="328" name=""/>
            <p:cNvGrpSpPr/>
            <p:nvPr/>
          </p:nvGrpSpPr>
          <p:grpSpPr>
            <a:xfrm>
              <a:off x="1986120" y="3895920"/>
              <a:ext cx="1571400" cy="109440"/>
              <a:chOff x="1986120" y="3895920"/>
              <a:chExt cx="1571400" cy="109440"/>
            </a:xfrm>
          </p:grpSpPr>
          <p:sp>
            <p:nvSpPr>
              <p:cNvPr id="329" name=""/>
              <p:cNvSpPr/>
              <p:nvPr/>
            </p:nvSpPr>
            <p:spPr>
              <a:xfrm flipV="1">
                <a:off x="1986120" y="38959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2771640" y="38959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3557520" y="38959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1987560" y="2455920"/>
              <a:ext cx="1571400" cy="109440"/>
              <a:chOff x="1987560" y="2455920"/>
              <a:chExt cx="1571400" cy="109440"/>
            </a:xfrm>
          </p:grpSpPr>
          <p:sp>
            <p:nvSpPr>
              <p:cNvPr id="333" name=""/>
              <p:cNvSpPr/>
              <p:nvPr/>
            </p:nvSpPr>
            <p:spPr>
              <a:xfrm flipV="1">
                <a:off x="1987560" y="24559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2773080" y="24559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3558960" y="24559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4235400" y="2759040"/>
              <a:ext cx="109440" cy="942840"/>
              <a:chOff x="4235400" y="2759040"/>
              <a:chExt cx="109440" cy="942840"/>
            </a:xfrm>
          </p:grpSpPr>
          <p:sp>
            <p:nvSpPr>
              <p:cNvPr id="337" name=""/>
              <p:cNvSpPr/>
              <p:nvPr/>
            </p:nvSpPr>
            <p:spPr>
              <a:xfrm>
                <a:off x="4235400" y="27590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35400" y="30733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235400" y="33876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35400" y="37018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1200240" y="2759040"/>
              <a:ext cx="109440" cy="942840"/>
              <a:chOff x="1200240" y="2759040"/>
              <a:chExt cx="109440" cy="942840"/>
            </a:xfrm>
          </p:grpSpPr>
          <p:sp>
            <p:nvSpPr>
              <p:cNvPr id="342" name=""/>
              <p:cNvSpPr/>
              <p:nvPr/>
            </p:nvSpPr>
            <p:spPr>
              <a:xfrm>
                <a:off x="1200240" y="27590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200240" y="30733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00240" y="33876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200240" y="37018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2426400" y="3556080"/>
            <a:ext cx="100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 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29120" y="2498760"/>
            <a:ext cx="30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m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83000" y="6329520"/>
            <a:ext cx="91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309400" y="4024440"/>
            <a:ext cx="91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17200" y="2514600"/>
            <a:ext cx="21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.7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18080" y="4498920"/>
            <a:ext cx="21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9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22000" y="6329520"/>
            <a:ext cx="91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6200000">
            <a:off x="-1800" y="3107880"/>
            <a:ext cx="91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426400" y="5657760"/>
            <a:ext cx="100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 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12600" y="5657760"/>
            <a:ext cx="100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 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2760" y="6541920"/>
            <a:ext cx="28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19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15040" y="2000160"/>
            <a:ext cx="984240" cy="6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427040" y="2271600"/>
            <a:ext cx="3498840" cy="3033720"/>
            <a:chOff x="1427040" y="2271600"/>
            <a:chExt cx="3498840" cy="3033720"/>
          </a:xfrm>
        </p:grpSpPr>
        <p:sp>
          <p:nvSpPr>
            <p:cNvPr id="359" name=""/>
            <p:cNvSpPr/>
            <p:nvPr/>
          </p:nvSpPr>
          <p:spPr>
            <a:xfrm>
              <a:off x="1427040" y="2271600"/>
              <a:ext cx="3498840" cy="30337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1427040" y="2878200"/>
              <a:ext cx="109440" cy="1819080"/>
              <a:chOff x="1427040" y="2878200"/>
              <a:chExt cx="109440" cy="1819080"/>
            </a:xfrm>
          </p:grpSpPr>
          <p:sp>
            <p:nvSpPr>
              <p:cNvPr id="361" name=""/>
              <p:cNvSpPr/>
              <p:nvPr/>
            </p:nvSpPr>
            <p:spPr>
              <a:xfrm>
                <a:off x="1427040" y="28782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427040" y="34844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427040" y="4090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427040" y="4697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2125800" y="2271600"/>
              <a:ext cx="2100240" cy="109440"/>
              <a:chOff x="2125800" y="2271600"/>
              <a:chExt cx="2100240" cy="109440"/>
            </a:xfrm>
          </p:grpSpPr>
          <p:sp>
            <p:nvSpPr>
              <p:cNvPr id="366" name=""/>
              <p:cNvSpPr/>
              <p:nvPr/>
            </p:nvSpPr>
            <p:spPr>
              <a:xfrm>
                <a:off x="4226040" y="227160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525840" y="227160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825640" y="227160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125800" y="227160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4816440" y="2878200"/>
              <a:ext cx="109440" cy="1819080"/>
              <a:chOff x="4816440" y="2878200"/>
              <a:chExt cx="109440" cy="1819080"/>
            </a:xfrm>
          </p:grpSpPr>
          <p:sp>
            <p:nvSpPr>
              <p:cNvPr id="371" name=""/>
              <p:cNvSpPr/>
              <p:nvPr/>
            </p:nvSpPr>
            <p:spPr>
              <a:xfrm>
                <a:off x="4816440" y="28782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816440" y="34844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816440" y="4090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816440" y="4697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2127240" y="5195880"/>
              <a:ext cx="2100240" cy="109440"/>
              <a:chOff x="2127240" y="5195880"/>
              <a:chExt cx="2100240" cy="109440"/>
            </a:xfrm>
          </p:grpSpPr>
          <p:sp>
            <p:nvSpPr>
              <p:cNvPr id="376" name=""/>
              <p:cNvSpPr/>
              <p:nvPr/>
            </p:nvSpPr>
            <p:spPr>
              <a:xfrm>
                <a:off x="4227480" y="51958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527280" y="51958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827080" y="51958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127240" y="51958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3960" y="565200"/>
            <a:ext cx="8236080" cy="333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te Carlo results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450800" y="2539800"/>
            <a:ext cx="2779920" cy="276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11160" y="1563840"/>
            <a:ext cx="4503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t transferred to targe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ing transi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0 K; 400 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44680" y="1552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930240" y="2171880"/>
            <a:ext cx="395280" cy="3226320"/>
            <a:chOff x="930240" y="2171880"/>
            <a:chExt cx="395280" cy="3226320"/>
          </a:xfrm>
        </p:grpSpPr>
        <p:sp>
          <p:nvSpPr>
            <p:cNvPr id="385" name=""/>
            <p:cNvSpPr/>
            <p:nvPr/>
          </p:nvSpPr>
          <p:spPr>
            <a:xfrm>
              <a:off x="930240" y="51544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30240" y="45576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30240" y="396072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30240" y="33638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30240" y="27669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30240" y="21718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1375920" y="5392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071440" y="5392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77760" y="5392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73280" y="5392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77800" y="5392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89160" y="5392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40560" y="5754600"/>
            <a:ext cx="20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ance travel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16200000">
            <a:off x="250560" y="3638520"/>
            <a:ext cx="74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24560" y="1911240"/>
            <a:ext cx="2284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densit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7 tor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 energy transferred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lision; no conden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24560" y="2603520"/>
            <a:ext cx="20559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 velocit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 energy lost in collision, no conden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22760" y="3297240"/>
            <a:ext cx="2027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st case: all energy 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collis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ll atoms st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424200" y="3807000"/>
            <a:ext cx="1937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 energy lost in collis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conden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22040" y="4317840"/>
            <a:ext cx="13676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lf impac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ferre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conden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23840" y="5010120"/>
            <a:ext cx="1955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 densit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 mtor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 energy lost in collision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conden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24560" y="5703840"/>
            <a:ext cx="164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MEGA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01880" y="6262560"/>
            <a:ext cx="714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hese are average values; the angular variation must also be conside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73360" y="3416400"/>
            <a:ext cx="2463840" cy="1657080"/>
          </a:xfrm>
          <a:custGeom>
            <a:avLst/>
            <a:gdLst/>
            <a:ahLst/>
            <a:rect l="l" t="t" r="r" b="b"/>
            <a:pathLst>
              <a:path w="1552" h="1044">
                <a:moveTo>
                  <a:pt x="1552" y="0"/>
                </a:moveTo>
                <a:lnTo>
                  <a:pt x="220" y="860"/>
                </a:lnTo>
                <a:lnTo>
                  <a:pt x="0" y="1044"/>
                </a:ln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49360" y="4413240"/>
            <a:ext cx="2705040" cy="882720"/>
          </a:xfrm>
          <a:custGeom>
            <a:avLst/>
            <a:gdLst/>
            <a:ahLst/>
            <a:rect l="l" t="t" r="r" b="b"/>
            <a:pathLst>
              <a:path w="1704" h="556">
                <a:moveTo>
                  <a:pt x="1704" y="0"/>
                </a:moveTo>
                <a:lnTo>
                  <a:pt x="1036" y="260"/>
                </a:lnTo>
                <a:lnTo>
                  <a:pt x="0" y="556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24160" y="3193920"/>
            <a:ext cx="1714320" cy="2121120"/>
          </a:xfrm>
          <a:custGeom>
            <a:avLst/>
            <a:gdLst/>
            <a:ahLst/>
            <a:rect l="l" t="t" r="r" b="b"/>
            <a:pathLst>
              <a:path w="1084" h="1340">
                <a:moveTo>
                  <a:pt x="1084" y="0"/>
                </a:moveTo>
                <a:lnTo>
                  <a:pt x="216" y="1056"/>
                </a:lnTo>
                <a:lnTo>
                  <a:pt x="0" y="1340"/>
                </a:lnTo>
              </a:path>
            </a:pathLst>
          </a:custGeom>
          <a:noFill/>
          <a:ln w="28440">
            <a:solidFill>
              <a:srgbClr val="f43a3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36760" y="4464000"/>
            <a:ext cx="158760" cy="851040"/>
          </a:xfrm>
          <a:custGeom>
            <a:avLst/>
            <a:gdLst/>
            <a:ahLst/>
            <a:rect l="l" t="t" r="r" b="b"/>
            <a:pathLst>
              <a:path w="100" h="536">
                <a:moveTo>
                  <a:pt x="100" y="0"/>
                </a:moveTo>
                <a:lnTo>
                  <a:pt x="48" y="308"/>
                </a:lnTo>
                <a:lnTo>
                  <a:pt x="0" y="536"/>
                </a:ln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550880" y="4400640"/>
            <a:ext cx="95400" cy="950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91040" y="4330800"/>
            <a:ext cx="12528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36960" y="4756320"/>
            <a:ext cx="125280" cy="107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75120" y="3137040"/>
            <a:ext cx="126720" cy="126720"/>
          </a:xfrm>
          <a:prstGeom prst="ellipse">
            <a:avLst/>
          </a:prstGeom>
          <a:solidFill>
            <a:srgbClr val="f43a3e"/>
          </a:solidFill>
          <a:ln w="12600">
            <a:solidFill>
              <a:srgbClr val="f43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677960" y="4807080"/>
            <a:ext cx="127080" cy="126720"/>
          </a:xfrm>
          <a:prstGeom prst="ellipse">
            <a:avLst/>
          </a:prstGeom>
          <a:solidFill>
            <a:srgbClr val="f43a3e"/>
          </a:solidFill>
          <a:ln w="12600">
            <a:solidFill>
              <a:srgbClr val="f43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73480" y="3352680"/>
            <a:ext cx="120600" cy="12060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65320" y="4718160"/>
            <a:ext cx="120600" cy="12060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22600" y="5003640"/>
            <a:ext cx="120600" cy="12096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79960" y="2482920"/>
            <a:ext cx="95040" cy="95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55840" y="4902120"/>
            <a:ext cx="95040" cy="954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30280" y="529596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160880" y="5232240"/>
            <a:ext cx="127080" cy="127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405080" y="5232240"/>
            <a:ext cx="95040" cy="954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71600" y="5226120"/>
            <a:ext cx="127080" cy="127080"/>
          </a:xfrm>
          <a:prstGeom prst="ellipse">
            <a:avLst/>
          </a:prstGeom>
          <a:solidFill>
            <a:srgbClr val="f43a3e"/>
          </a:solidFill>
          <a:ln w="12600">
            <a:solidFill>
              <a:srgbClr val="f43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5232240"/>
            <a:ext cx="120600" cy="12096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56400" y="2651040"/>
            <a:ext cx="126720" cy="127080"/>
          </a:xfrm>
          <a:prstGeom prst="ellipse">
            <a:avLst/>
          </a:prstGeom>
          <a:solidFill>
            <a:srgbClr val="f43a3e"/>
          </a:solidFill>
          <a:ln w="12600">
            <a:solidFill>
              <a:srgbClr val="f43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59280" y="3348000"/>
            <a:ext cx="95400" cy="95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46680" y="3841920"/>
            <a:ext cx="120600" cy="12060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43440" y="4362480"/>
            <a:ext cx="12564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72240" y="1955880"/>
            <a:ext cx="95040" cy="9504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15040" y="2711520"/>
            <a:ext cx="984240" cy="6120"/>
          </a:xfrm>
          <a:prstGeom prst="line">
            <a:avLst/>
          </a:prstGeom>
          <a:ln w="28440">
            <a:solidFill>
              <a:srgbClr val="f43a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15040" y="3392640"/>
            <a:ext cx="984240" cy="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15040" y="3898800"/>
            <a:ext cx="984240" cy="6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15040" y="4417920"/>
            <a:ext cx="984240" cy="648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24160" y="5295960"/>
            <a:ext cx="831600" cy="0"/>
          </a:xfrm>
          <a:prstGeom prst="line">
            <a:avLst/>
          </a:prstGeom>
          <a:ln w="12600">
            <a:solidFill>
              <a:srgbClr val="f43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11480" y="5251320"/>
            <a:ext cx="95040" cy="9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43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98560" y="5251320"/>
            <a:ext cx="95400" cy="9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43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390680" y="5245200"/>
            <a:ext cx="95400" cy="9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43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2760" y="6541920"/>
            <a:ext cx="28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19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5315040" y="5048280"/>
            <a:ext cx="981000" cy="95400"/>
            <a:chOff x="5315040" y="5048280"/>
            <a:chExt cx="981000" cy="95400"/>
          </a:xfrm>
        </p:grpSpPr>
        <p:sp>
          <p:nvSpPr>
            <p:cNvPr id="441" name=""/>
            <p:cNvSpPr/>
            <p:nvPr/>
          </p:nvSpPr>
          <p:spPr>
            <a:xfrm>
              <a:off x="5315040" y="5095800"/>
              <a:ext cx="981000" cy="0"/>
            </a:xfrm>
            <a:prstGeom prst="line">
              <a:avLst/>
            </a:prstGeom>
            <a:ln w="28440">
              <a:solidFill>
                <a:srgbClr val="f43a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59280" y="5048280"/>
              <a:ext cx="9540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43a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15040" y="5748480"/>
            <a:ext cx="981000" cy="126720"/>
            <a:chOff x="5315040" y="5748480"/>
            <a:chExt cx="981000" cy="126720"/>
          </a:xfrm>
        </p:grpSpPr>
        <p:sp>
          <p:nvSpPr>
            <p:cNvPr id="444" name=""/>
            <p:cNvSpPr/>
            <p:nvPr/>
          </p:nvSpPr>
          <p:spPr>
            <a:xfrm>
              <a:off x="5742000" y="5748480"/>
              <a:ext cx="127080" cy="12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15040" y="5811840"/>
              <a:ext cx="981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3960" y="565200"/>
            <a:ext cx="8236080" cy="333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al config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38120" y="1809360"/>
            <a:ext cx="825192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marL="285840" indent="-285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RHEED to measure condensation rate and sticking coeffic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 the rate deuterium ice melts to determine accommodatio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sticking coeffic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92760" y="6541920"/>
            <a:ext cx="28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19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348000" y="4040280"/>
            <a:ext cx="180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1" y="0"/>
                </a:moveTo>
                <a:lnTo>
                  <a:pt x="0" y="8"/>
                </a:lnTo>
                <a:lnTo>
                  <a:pt x="1" y="8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06960" y="438480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1"/>
                </a:moveTo>
                <a:lnTo>
                  <a:pt x="0" y="0"/>
                </a:lnTo>
                <a:lnTo>
                  <a:pt x="0" y="2"/>
                </a:lnTo>
                <a:lnTo>
                  <a:pt x="4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94440" y="2274840"/>
            <a:ext cx="9360" cy="9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76920" y="2146320"/>
            <a:ext cx="9360" cy="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63960" y="2583000"/>
            <a:ext cx="9720" cy="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281560" y="2278080"/>
            <a:ext cx="9720" cy="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466280" y="3257640"/>
            <a:ext cx="9381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on bea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&l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e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lsed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ecular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24080" y="6087960"/>
            <a:ext cx="4669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23560" y="6369120"/>
            <a:ext cx="6224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H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23560" y="4165560"/>
            <a:ext cx="53100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00 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78920" y="4707000"/>
            <a:ext cx="96984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rif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100 </a:t>
            </a:r>
            <a:r>
              <a:rPr b="1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80440" y="6024600"/>
            <a:ext cx="697320" cy="260280"/>
            <a:chOff x="2980440" y="6024600"/>
            <a:chExt cx="697320" cy="260280"/>
          </a:xfrm>
        </p:grpSpPr>
        <p:sp>
          <p:nvSpPr>
            <p:cNvPr id="461" name=""/>
            <p:cNvSpPr/>
            <p:nvPr/>
          </p:nvSpPr>
          <p:spPr>
            <a:xfrm>
              <a:off x="2980440" y="6024600"/>
              <a:ext cx="6973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0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2" name="ScriptL" descr=""/>
            <p:cNvPicPr/>
            <p:nvPr/>
          </p:nvPicPr>
          <p:blipFill>
            <a:blip r:embed="rId1"/>
            <a:stretch/>
          </p:blipFill>
          <p:spPr>
            <a:xfrm>
              <a:off x="3419280" y="6024600"/>
              <a:ext cx="100080" cy="18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3" name=""/>
          <p:cNvGrpSpPr/>
          <p:nvPr/>
        </p:nvGrpSpPr>
        <p:grpSpPr>
          <a:xfrm>
            <a:off x="4628160" y="6024600"/>
            <a:ext cx="697320" cy="260280"/>
            <a:chOff x="4628160" y="6024600"/>
            <a:chExt cx="697320" cy="260280"/>
          </a:xfrm>
        </p:grpSpPr>
        <p:sp>
          <p:nvSpPr>
            <p:cNvPr id="464" name=""/>
            <p:cNvSpPr/>
            <p:nvPr/>
          </p:nvSpPr>
          <p:spPr>
            <a:xfrm>
              <a:off x="4628160" y="6024600"/>
              <a:ext cx="6973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0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5" name="ScriptL" descr=""/>
            <p:cNvPicPr/>
            <p:nvPr/>
          </p:nvPicPr>
          <p:blipFill>
            <a:blip r:embed="rId2"/>
            <a:stretch/>
          </p:blipFill>
          <p:spPr>
            <a:xfrm>
              <a:off x="5067360" y="6024600"/>
              <a:ext cx="100080" cy="18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"/>
          <p:cNvSpPr/>
          <p:nvPr/>
        </p:nvSpPr>
        <p:spPr>
          <a:xfrm>
            <a:off x="3260520" y="2925720"/>
            <a:ext cx="7232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40560" y="4741920"/>
            <a:ext cx="95184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 K cry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arget 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158880" y="3814920"/>
            <a:ext cx="15098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-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 diam sp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58520" y="5240160"/>
            <a:ext cx="1145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 gas ~ 900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6772320" y="4145040"/>
            <a:ext cx="1467360" cy="1008360"/>
            <a:chOff x="6772320" y="4145040"/>
            <a:chExt cx="1467360" cy="1008360"/>
          </a:xfrm>
        </p:grpSpPr>
        <p:grpSp>
          <p:nvGrpSpPr>
            <p:cNvPr id="471" name=""/>
            <p:cNvGrpSpPr/>
            <p:nvPr/>
          </p:nvGrpSpPr>
          <p:grpSpPr>
            <a:xfrm>
              <a:off x="6772320" y="4145040"/>
              <a:ext cx="1467360" cy="473400"/>
              <a:chOff x="6772320" y="4145040"/>
              <a:chExt cx="1467360" cy="473400"/>
            </a:xfrm>
          </p:grpSpPr>
          <p:sp>
            <p:nvSpPr>
              <p:cNvPr id="472" name=""/>
              <p:cNvSpPr/>
              <p:nvPr/>
            </p:nvSpPr>
            <p:spPr>
              <a:xfrm>
                <a:off x="6772320" y="4270320"/>
                <a:ext cx="89676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2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to 10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7760520" y="4145040"/>
                <a:ext cx="479160" cy="473400"/>
                <a:chOff x="7760520" y="4145040"/>
                <a:chExt cx="479160" cy="47340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7760520" y="4145040"/>
                  <a:ext cx="479160" cy="47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t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r>
                    <a:rPr b="1" lang="en-US" sz="14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•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781760" y="43624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6" name=""/>
            <p:cNvGrpSpPr/>
            <p:nvPr/>
          </p:nvGrpSpPr>
          <p:grpSpPr>
            <a:xfrm>
              <a:off x="6772320" y="4680000"/>
              <a:ext cx="1306080" cy="473400"/>
              <a:chOff x="6772320" y="4680000"/>
              <a:chExt cx="1306080" cy="473400"/>
            </a:xfrm>
          </p:grpSpPr>
          <p:sp>
            <p:nvSpPr>
              <p:cNvPr id="477" name=""/>
              <p:cNvSpPr/>
              <p:nvPr/>
            </p:nvSpPr>
            <p:spPr>
              <a:xfrm>
                <a:off x="6772320" y="4802040"/>
                <a:ext cx="89676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to 10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7760520" y="4680000"/>
                <a:ext cx="317880" cy="473400"/>
                <a:chOff x="7760520" y="4680000"/>
                <a:chExt cx="317880" cy="47340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7760520" y="4680000"/>
                  <a:ext cx="317880" cy="47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t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777440" y="4897080"/>
                  <a:ext cx="298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1" name=""/>
          <p:cNvSpPr/>
          <p:nvPr/>
        </p:nvSpPr>
        <p:spPr>
          <a:xfrm>
            <a:off x="6161400" y="4527720"/>
            <a:ext cx="3664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071960" y="3798720"/>
            <a:ext cx="164880" cy="698760"/>
            <a:chOff x="4071960" y="3798720"/>
            <a:chExt cx="164880" cy="698760"/>
          </a:xfrm>
        </p:grpSpPr>
        <p:sp>
          <p:nvSpPr>
            <p:cNvPr id="483" name=""/>
            <p:cNvSpPr/>
            <p:nvPr/>
          </p:nvSpPr>
          <p:spPr>
            <a:xfrm>
              <a:off x="4236840" y="3798720"/>
              <a:ext cx="0" cy="698760"/>
            </a:xfrm>
            <a:prstGeom prst="line">
              <a:avLst/>
            </a:prstGeom>
            <a:ln w="28440">
              <a:solidFill>
                <a:srgbClr val="00ae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54400" y="3798720"/>
              <a:ext cx="0" cy="69876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71960" y="3798720"/>
              <a:ext cx="0" cy="698760"/>
            </a:xfrm>
            <a:prstGeom prst="line">
              <a:avLst/>
            </a:prstGeom>
            <a:ln w="28440">
              <a:solidFill>
                <a:srgbClr val="f43a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059360" y="4624560"/>
            <a:ext cx="164520" cy="882000"/>
            <a:chOff x="4059360" y="4624560"/>
            <a:chExt cx="164520" cy="882000"/>
          </a:xfrm>
        </p:grpSpPr>
        <p:sp>
          <p:nvSpPr>
            <p:cNvPr id="487" name=""/>
            <p:cNvSpPr/>
            <p:nvPr/>
          </p:nvSpPr>
          <p:spPr>
            <a:xfrm>
              <a:off x="4223880" y="4624560"/>
              <a:ext cx="0" cy="882000"/>
            </a:xfrm>
            <a:prstGeom prst="line">
              <a:avLst/>
            </a:prstGeom>
            <a:ln w="28440">
              <a:solidFill>
                <a:srgbClr val="00ae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41440" y="4624560"/>
              <a:ext cx="0" cy="88200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59360" y="4624560"/>
              <a:ext cx="0" cy="882000"/>
            </a:xfrm>
            <a:prstGeom prst="line">
              <a:avLst/>
            </a:prstGeom>
            <a:ln w="28440">
              <a:solidFill>
                <a:srgbClr val="f43a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4322880" y="4413240"/>
            <a:ext cx="0" cy="3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637000" y="3797280"/>
            <a:ext cx="1365120" cy="1701720"/>
          </a:xfrm>
          <a:custGeom>
            <a:avLst/>
            <a:gdLst/>
            <a:ahLst/>
            <a:rect l="l" t="t" r="r" b="b"/>
            <a:pathLst>
              <a:path w="860" h="1096">
                <a:moveTo>
                  <a:pt x="860" y="0"/>
                </a:moveTo>
                <a:lnTo>
                  <a:pt x="0" y="0"/>
                </a:lnTo>
                <a:lnTo>
                  <a:pt x="0" y="1096"/>
                </a:lnTo>
                <a:lnTo>
                  <a:pt x="852" y="1096"/>
                </a:lnTo>
              </a:path>
            </a:pathLst>
          </a:custGeom>
          <a:noFill/>
          <a:ln w="28440">
            <a:solidFill>
              <a:srgbClr val="f43a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54200" y="3724200"/>
            <a:ext cx="3289320" cy="1847880"/>
          </a:xfrm>
          <a:prstGeom prst="rect">
            <a:avLst/>
          </a:prstGeom>
          <a:noFill/>
          <a:ln w="28440">
            <a:solidFill>
              <a:srgbClr val="00ae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478240" y="3619440"/>
            <a:ext cx="3492360" cy="2324160"/>
          </a:xfrm>
          <a:custGeom>
            <a:avLst/>
            <a:gdLst/>
            <a:ahLst/>
            <a:rect l="l" t="t" r="r" b="b"/>
            <a:pathLst>
              <a:path w="2200" h="1464">
                <a:moveTo>
                  <a:pt x="432" y="1460"/>
                </a:moveTo>
                <a:lnTo>
                  <a:pt x="432" y="1296"/>
                </a:lnTo>
                <a:lnTo>
                  <a:pt x="0" y="1296"/>
                </a:lnTo>
                <a:lnTo>
                  <a:pt x="2" y="0"/>
                </a:lnTo>
                <a:lnTo>
                  <a:pt x="2200" y="0"/>
                </a:lnTo>
                <a:lnTo>
                  <a:pt x="2200" y="1292"/>
                </a:lnTo>
                <a:lnTo>
                  <a:pt x="1684" y="1292"/>
                </a:lnTo>
                <a:lnTo>
                  <a:pt x="1684" y="146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25840" y="5676840"/>
            <a:ext cx="1270080" cy="266760"/>
          </a:xfrm>
          <a:custGeom>
            <a:avLst/>
            <a:gdLst/>
            <a:ahLst/>
            <a:rect l="l" t="t" r="r" b="b"/>
            <a:pathLst>
              <a:path w="800" h="168">
                <a:moveTo>
                  <a:pt x="4" y="168"/>
                </a:moveTo>
                <a:lnTo>
                  <a:pt x="0" y="0"/>
                </a:lnTo>
                <a:lnTo>
                  <a:pt x="800" y="0"/>
                </a:lnTo>
                <a:lnTo>
                  <a:pt x="796" y="1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4849920" y="3292560"/>
            <a:ext cx="311040" cy="1365120"/>
            <a:chOff x="4849920" y="3292560"/>
            <a:chExt cx="311040" cy="1365120"/>
          </a:xfrm>
        </p:grpSpPr>
        <p:sp>
          <p:nvSpPr>
            <p:cNvPr id="496" name=""/>
            <p:cNvSpPr/>
            <p:nvPr/>
          </p:nvSpPr>
          <p:spPr>
            <a:xfrm>
              <a:off x="4970520" y="4383000"/>
              <a:ext cx="69840" cy="27468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35600" y="3592440"/>
              <a:ext cx="139680" cy="8049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849920" y="3292560"/>
              <a:ext cx="311040" cy="3110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3784680" y="4254480"/>
            <a:ext cx="196920" cy="260280"/>
          </a:xfrm>
          <a:custGeom>
            <a:avLst/>
            <a:gdLst/>
            <a:ahLst/>
            <a:rect l="l" t="t" r="r" b="b"/>
            <a:pathLst>
              <a:path w="124" h="164">
                <a:moveTo>
                  <a:pt x="0" y="164"/>
                </a:moveTo>
                <a:lnTo>
                  <a:pt x="60" y="136"/>
                </a:lnTo>
                <a:lnTo>
                  <a:pt x="12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784680" y="4616280"/>
            <a:ext cx="196920" cy="260640"/>
          </a:xfrm>
          <a:custGeom>
            <a:avLst/>
            <a:gdLst/>
            <a:ahLst/>
            <a:rect l="l" t="t" r="r" b="b"/>
            <a:pathLst>
              <a:path w="124" h="164">
                <a:moveTo>
                  <a:pt x="0" y="164"/>
                </a:moveTo>
                <a:lnTo>
                  <a:pt x="60" y="136"/>
                </a:lnTo>
                <a:lnTo>
                  <a:pt x="12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37200" y="3276720"/>
            <a:ext cx="666720" cy="128268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4059360" y="2997360"/>
            <a:ext cx="291960" cy="323640"/>
            <a:chOff x="4059360" y="2997360"/>
            <a:chExt cx="291960" cy="323640"/>
          </a:xfrm>
        </p:grpSpPr>
        <p:sp>
          <p:nvSpPr>
            <p:cNvPr id="503" name=""/>
            <p:cNvSpPr/>
            <p:nvPr/>
          </p:nvSpPr>
          <p:spPr>
            <a:xfrm>
              <a:off x="4059360" y="2997360"/>
              <a:ext cx="291960" cy="323640"/>
            </a:xfrm>
            <a:custGeom>
              <a:avLst/>
              <a:gdLst/>
              <a:ahLst/>
              <a:rect l="l" t="t" r="r" b="b"/>
              <a:pathLst>
                <a:path w="184" h="204">
                  <a:moveTo>
                    <a:pt x="0" y="204"/>
                  </a:moveTo>
                  <a:lnTo>
                    <a:pt x="0" y="0"/>
                  </a:lnTo>
                  <a:lnTo>
                    <a:pt x="184" y="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59360" y="3105000"/>
              <a:ext cx="253800" cy="184320"/>
            </a:xfrm>
            <a:custGeom>
              <a:avLst/>
              <a:gdLst/>
              <a:ahLst/>
              <a:rect l="l" t="t" r="r" b="b"/>
              <a:pathLst>
                <a:path w="160" h="108">
                  <a:moveTo>
                    <a:pt x="0" y="108"/>
                  </a:moveTo>
                  <a:cubicBezTo>
                    <a:pt x="36" y="99"/>
                    <a:pt x="73" y="90"/>
                    <a:pt x="100" y="72"/>
                  </a:cubicBezTo>
                  <a:cubicBezTo>
                    <a:pt x="127" y="54"/>
                    <a:pt x="143" y="27"/>
                    <a:pt x="16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127400" y="3156120"/>
              <a:ext cx="149040" cy="107640"/>
            </a:xfrm>
            <a:custGeom>
              <a:avLst/>
              <a:gdLst/>
              <a:ahLst/>
              <a:rect l="l" t="t" r="r" b="b"/>
              <a:pathLst>
                <a:path w="94" h="68">
                  <a:moveTo>
                    <a:pt x="89" y="4"/>
                  </a:moveTo>
                  <a:cubicBezTo>
                    <a:pt x="84" y="0"/>
                    <a:pt x="47" y="2"/>
                    <a:pt x="33" y="12"/>
                  </a:cubicBezTo>
                  <a:cubicBezTo>
                    <a:pt x="19" y="22"/>
                    <a:pt x="0" y="60"/>
                    <a:pt x="5" y="64"/>
                  </a:cubicBezTo>
                  <a:cubicBezTo>
                    <a:pt x="10" y="68"/>
                    <a:pt x="48" y="46"/>
                    <a:pt x="61" y="36"/>
                  </a:cubicBezTo>
                  <a:cubicBezTo>
                    <a:pt x="74" y="26"/>
                    <a:pt x="94" y="8"/>
                    <a:pt x="89" y="4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6" name="T1919%20beam" descr=""/>
          <p:cNvPicPr/>
          <p:nvPr/>
        </p:nvPicPr>
        <p:blipFill>
          <a:blip r:embed="rId3"/>
          <a:stretch/>
        </p:blipFill>
        <p:spPr>
          <a:xfrm>
            <a:off x="1427040" y="4402080"/>
            <a:ext cx="2265480" cy="1656000"/>
          </a:xfrm>
          <a:prstGeom prst="rect">
            <a:avLst/>
          </a:prstGeom>
          <a:ln w="0">
            <a:noFill/>
          </a:ln>
        </p:spPr>
      </p:pic>
      <p:grpSp>
        <p:nvGrpSpPr>
          <p:cNvPr id="507" name=""/>
          <p:cNvGrpSpPr/>
          <p:nvPr/>
        </p:nvGrpSpPr>
        <p:grpSpPr>
          <a:xfrm>
            <a:off x="4029480" y="4587120"/>
            <a:ext cx="1003680" cy="1751040"/>
            <a:chOff x="4029480" y="4587120"/>
            <a:chExt cx="1003680" cy="1751040"/>
          </a:xfrm>
        </p:grpSpPr>
        <p:sp>
          <p:nvSpPr>
            <p:cNvPr id="508" name=""/>
            <p:cNvSpPr/>
            <p:nvPr/>
          </p:nvSpPr>
          <p:spPr>
            <a:xfrm rot="1475400">
              <a:off x="4408560" y="4563720"/>
              <a:ext cx="271440" cy="1755720"/>
            </a:xfrm>
            <a:prstGeom prst="flowChartExtract">
              <a:avLst/>
            </a:prstGeom>
            <a:blipFill rotWithShape="0">
              <a:blip r:embed="rId4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475400">
              <a:off x="4030560" y="6216480"/>
              <a:ext cx="277920" cy="66960"/>
            </a:xfrm>
            <a:prstGeom prst="ellipse">
              <a:avLst/>
            </a:prstGeom>
            <a:solidFill>
              <a:srgbClr val="00ae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6573960" y="4363920"/>
            <a:ext cx="152280" cy="565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4400 h 565200"/>
              <a:gd name="textAreaBottom" fmla="*/ 550800 h 56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3960" y="565200"/>
            <a:ext cx="8236080" cy="333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39560" y="1720800"/>
            <a:ext cx="8251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marL="285840" indent="-285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-qual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average 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ce layers formed in 3 h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is 0.6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variation in ice roughness due solely to th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ystallizing and layering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bient radiation melts an OMEGA-scale target in 10 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xplodes it in 78 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33516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radi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.18 mW, flu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74 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t flux to cryo targets calculated for a wide rang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arget chamber conditio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33516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00 K and 4000 K, 100 and 400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33516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 dens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.03, 1.7 and 22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, 50, and 700 mtorr at 300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sign of equipment for measuring the efficiency of heat transfe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 cryogenic target continu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92760" y="6541920"/>
            <a:ext cx="28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19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3960" y="565200"/>
            <a:ext cx="8236080" cy="333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8120" y="1809720"/>
            <a:ext cx="8251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marL="285840" indent="-285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us of ice layering eff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-resolution images of an exploding cryogenic targ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us of thermal modeling of heat flux to IFE targ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760" y="6541920"/>
            <a:ext cx="28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1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3960" y="565200"/>
            <a:ext cx="8236080" cy="333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9560" y="1720800"/>
            <a:ext cx="8251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marL="285840" indent="-285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-qual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average 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ce layers formed in 3 h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is 0.6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variation in ice roughness due solely to th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ystallizing and layering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bient radiation melts an OMEGA-scale target in 10 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xplodes it in 78 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33516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radi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.18 mW, flu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74 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t flux to cryo targets calculated for a wide rang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arget chamber conditio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33516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00 K and 4000 K, 100 and 400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33516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 dens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.03, 1.7 and 22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, 50, and 700 mtorr at 300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sign of equipment for measuring the efficiency of heat transfe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 cryogenic target continu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760" y="6541920"/>
            <a:ext cx="28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19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1921b" descr=""/>
          <p:cNvPicPr/>
          <p:nvPr/>
        </p:nvPicPr>
        <p:blipFill>
          <a:blip r:embed="rId1"/>
          <a:stretch/>
        </p:blipFill>
        <p:spPr>
          <a:xfrm>
            <a:off x="3159000" y="1765440"/>
            <a:ext cx="2028960" cy="2104920"/>
          </a:xfrm>
          <a:prstGeom prst="rect">
            <a:avLst/>
          </a:prstGeom>
          <a:ln w="0">
            <a:noFill/>
          </a:ln>
        </p:spPr>
      </p:pic>
      <p:pic>
        <p:nvPicPr>
          <p:cNvPr id="55" name="T1921a" descr=""/>
          <p:cNvPicPr/>
          <p:nvPr/>
        </p:nvPicPr>
        <p:blipFill>
          <a:blip r:embed="rId2"/>
          <a:stretch/>
        </p:blipFill>
        <p:spPr>
          <a:xfrm>
            <a:off x="880920" y="1636560"/>
            <a:ext cx="2175120" cy="2098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3960" y="565200"/>
            <a:ext cx="8236080" cy="333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continues in making higher quality ice layer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ime to form these layers is surprisingly qui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2424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8120" y="1424160"/>
            <a:ext cx="1059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ttom 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1921c" descr=""/>
          <p:cNvPicPr/>
          <p:nvPr/>
        </p:nvPicPr>
        <p:blipFill>
          <a:blip r:embed="rId3"/>
          <a:stretch/>
        </p:blipFill>
        <p:spPr>
          <a:xfrm>
            <a:off x="885960" y="4348080"/>
            <a:ext cx="2166840" cy="2059200"/>
          </a:xfrm>
          <a:prstGeom prst="rect">
            <a:avLst/>
          </a:prstGeom>
          <a:ln w="0">
            <a:noFill/>
          </a:ln>
        </p:spPr>
      </p:pic>
      <p:pic>
        <p:nvPicPr>
          <p:cNvPr id="60" name="T1921d" descr=""/>
          <p:cNvPicPr/>
          <p:nvPr/>
        </p:nvPicPr>
        <p:blipFill>
          <a:blip r:embed="rId4"/>
          <a:stretch/>
        </p:blipFill>
        <p:spPr>
          <a:xfrm>
            <a:off x="3108240" y="4348080"/>
            <a:ext cx="2057400" cy="2025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07040" y="1424160"/>
            <a:ext cx="7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95600" y="4221000"/>
            <a:ext cx="64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 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5320" y="4221000"/>
            <a:ext cx="63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 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82760" y="3186000"/>
            <a:ext cx="55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 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25520" y="4906800"/>
            <a:ext cx="55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 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1240" y="4935600"/>
            <a:ext cx="55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 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12600" y="2104920"/>
            <a:ext cx="55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 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58720" y="4719600"/>
            <a:ext cx="55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 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15960" y="1701720"/>
            <a:ext cx="55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 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98120" y="3800520"/>
            <a:ext cx="55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 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23800" y="2681280"/>
            <a:ext cx="230400" cy="2003400"/>
            <a:chOff x="523800" y="2681280"/>
            <a:chExt cx="230400" cy="2003400"/>
          </a:xfrm>
        </p:grpSpPr>
        <p:pic>
          <p:nvPicPr>
            <p:cNvPr id="72" name="T1921colorbar" descr=""/>
            <p:cNvPicPr/>
            <p:nvPr/>
          </p:nvPicPr>
          <p:blipFill>
            <a:blip r:embed="rId5"/>
            <a:stretch/>
          </p:blipFill>
          <p:spPr>
            <a:xfrm>
              <a:off x="538200" y="2681280"/>
              <a:ext cx="216000" cy="20034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grpSp>
          <p:nvGrpSpPr>
            <p:cNvPr id="73" name=""/>
            <p:cNvGrpSpPr/>
            <p:nvPr/>
          </p:nvGrpSpPr>
          <p:grpSpPr>
            <a:xfrm>
              <a:off x="523800" y="3014640"/>
              <a:ext cx="228240" cy="1335240"/>
              <a:chOff x="523800" y="3014640"/>
              <a:chExt cx="228240" cy="1335240"/>
            </a:xfrm>
          </p:grpSpPr>
          <p:sp>
            <p:nvSpPr>
              <p:cNvPr id="74" name=""/>
              <p:cNvSpPr/>
              <p:nvPr/>
            </p:nvSpPr>
            <p:spPr>
              <a:xfrm>
                <a:off x="523800" y="3014640"/>
                <a:ext cx="22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23800" y="3348000"/>
                <a:ext cx="22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23800" y="3683160"/>
                <a:ext cx="22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23800" y="4016520"/>
                <a:ext cx="22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23800" y="4349880"/>
                <a:ext cx="22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386640" y="292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6640" y="3247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6640" y="3584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1680" y="4257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1680" y="3927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54280" y="4052880"/>
            <a:ext cx="2047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 in ice roughness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ring the layering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ryo-2035-294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62800" y="4700520"/>
            <a:ext cx="1619280" cy="1114560"/>
          </a:xfrm>
          <a:custGeom>
            <a:avLst/>
            <a:gdLst/>
            <a:ahLst/>
            <a:rect l="l" t="t" r="r" b="b"/>
            <a:pathLst>
              <a:path w="1020" h="702">
                <a:moveTo>
                  <a:pt x="0" y="0"/>
                </a:moveTo>
                <a:lnTo>
                  <a:pt x="51" y="513"/>
                </a:lnTo>
                <a:lnTo>
                  <a:pt x="96" y="582"/>
                </a:lnTo>
                <a:lnTo>
                  <a:pt x="144" y="588"/>
                </a:lnTo>
                <a:lnTo>
                  <a:pt x="195" y="642"/>
                </a:lnTo>
                <a:lnTo>
                  <a:pt x="1020" y="70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369120" y="4630680"/>
            <a:ext cx="1898640" cy="1244520"/>
            <a:chOff x="6369120" y="4630680"/>
            <a:chExt cx="1898640" cy="1244520"/>
          </a:xfrm>
        </p:grpSpPr>
        <p:grpSp>
          <p:nvGrpSpPr>
            <p:cNvPr id="87" name=""/>
            <p:cNvGrpSpPr/>
            <p:nvPr/>
          </p:nvGrpSpPr>
          <p:grpSpPr>
            <a:xfrm>
              <a:off x="6702480" y="5783040"/>
              <a:ext cx="1357200" cy="91800"/>
              <a:chOff x="6702480" y="5783040"/>
              <a:chExt cx="1357200" cy="91800"/>
            </a:xfrm>
          </p:grpSpPr>
          <p:sp>
            <p:nvSpPr>
              <p:cNvPr id="88" name=""/>
              <p:cNvSpPr/>
              <p:nvPr/>
            </p:nvSpPr>
            <p:spPr>
              <a:xfrm flipV="1">
                <a:off x="6973920" y="5783040"/>
                <a:ext cx="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7516800" y="5783040"/>
                <a:ext cx="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6702480" y="5819400"/>
                <a:ext cx="0" cy="5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7245360" y="5819400"/>
                <a:ext cx="0" cy="5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7788240" y="5819400"/>
                <a:ext cx="0" cy="5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8059680" y="5783040"/>
                <a:ext cx="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6369120" y="4630680"/>
              <a:ext cx="1898640" cy="124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6369120" y="4805280"/>
              <a:ext cx="91800" cy="893880"/>
              <a:chOff x="6369120" y="4805280"/>
              <a:chExt cx="91800" cy="893880"/>
            </a:xfrm>
          </p:grpSpPr>
          <p:sp>
            <p:nvSpPr>
              <p:cNvPr id="96" name=""/>
              <p:cNvSpPr/>
              <p:nvPr/>
            </p:nvSpPr>
            <p:spPr>
              <a:xfrm>
                <a:off x="6369120" y="5519880"/>
                <a:ext cx="9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369120" y="4805280"/>
                <a:ext cx="9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369120" y="5162760"/>
                <a:ext cx="9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6369120" y="4984920"/>
                <a:ext cx="46440" cy="714240"/>
                <a:chOff x="6369120" y="4984920"/>
                <a:chExt cx="46440" cy="714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369120" y="5699160"/>
                  <a:ext cx="46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369120" y="4984920"/>
                  <a:ext cx="46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369120" y="5342040"/>
                  <a:ext cx="46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" name=""/>
            <p:cNvGrpSpPr/>
            <p:nvPr/>
          </p:nvGrpSpPr>
          <p:grpSpPr>
            <a:xfrm>
              <a:off x="8175600" y="4805280"/>
              <a:ext cx="92160" cy="893880"/>
              <a:chOff x="8175600" y="4805280"/>
              <a:chExt cx="92160" cy="893880"/>
            </a:xfrm>
          </p:grpSpPr>
          <p:sp>
            <p:nvSpPr>
              <p:cNvPr id="104" name=""/>
              <p:cNvSpPr/>
              <p:nvPr/>
            </p:nvSpPr>
            <p:spPr>
              <a:xfrm>
                <a:off x="8175600" y="551988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175600" y="480528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175600" y="516240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8220960" y="4984920"/>
                <a:ext cx="46440" cy="714240"/>
                <a:chOff x="8220960" y="4984920"/>
                <a:chExt cx="46440" cy="7142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8220960" y="5699160"/>
                  <a:ext cx="46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8220960" y="4984920"/>
                  <a:ext cx="46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8220960" y="5342040"/>
                  <a:ext cx="46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" name=""/>
            <p:cNvGrpSpPr/>
            <p:nvPr/>
          </p:nvGrpSpPr>
          <p:grpSpPr>
            <a:xfrm>
              <a:off x="6664320" y="4630680"/>
              <a:ext cx="1357200" cy="92160"/>
              <a:chOff x="6664320" y="4630680"/>
              <a:chExt cx="1357200" cy="92160"/>
            </a:xfrm>
          </p:grpSpPr>
          <p:sp>
            <p:nvSpPr>
              <p:cNvPr id="112" name=""/>
              <p:cNvSpPr/>
              <p:nvPr/>
            </p:nvSpPr>
            <p:spPr>
              <a:xfrm flipV="1">
                <a:off x="6935400" y="4630680"/>
                <a:ext cx="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7478280" y="4630680"/>
                <a:ext cx="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6664320" y="463068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206840" y="463068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7749720" y="463068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8021520" y="4630680"/>
                <a:ext cx="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6515280" y="4649760"/>
            <a:ext cx="99720" cy="100080"/>
          </a:xfrm>
          <a:prstGeom prst="diamond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95920" y="5464080"/>
            <a:ext cx="100080" cy="100080"/>
          </a:xfrm>
          <a:prstGeom prst="diamond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29520" y="5761080"/>
            <a:ext cx="100080" cy="100080"/>
          </a:xfrm>
          <a:prstGeom prst="diamond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38840" y="5578560"/>
            <a:ext cx="100080" cy="100080"/>
          </a:xfrm>
          <a:prstGeom prst="diamond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24520" y="5664240"/>
            <a:ext cx="100080" cy="100080"/>
          </a:xfrm>
          <a:prstGeom prst="diamond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57840" y="5568840"/>
            <a:ext cx="100080" cy="100080"/>
          </a:xfrm>
          <a:prstGeom prst="diamond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5200" y="5907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90040" y="5907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36160" y="5907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30800" y="5907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86160" y="6141960"/>
            <a:ext cx="77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26920" y="5776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42320" y="54244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2320" y="5062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42320" y="4713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5291640" y="5064480"/>
            <a:ext cx="1104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ms rough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T1921e" descr=""/>
          <p:cNvPicPr/>
          <p:nvPr/>
        </p:nvPicPr>
        <p:blipFill>
          <a:blip r:embed="rId6"/>
          <a:stretch/>
        </p:blipFill>
        <p:spPr>
          <a:xfrm>
            <a:off x="6151680" y="1673280"/>
            <a:ext cx="2219040" cy="1995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rot="16200000">
            <a:off x="5544360" y="2559960"/>
            <a:ext cx="875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w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2760" y="6541920"/>
            <a:ext cx="28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19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128160" y="3594240"/>
            <a:ext cx="22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41480" y="4344840"/>
            <a:ext cx="387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062840" y="3686040"/>
            <a:ext cx="523800" cy="182880"/>
            <a:chOff x="7062840" y="3686040"/>
            <a:chExt cx="523800" cy="182880"/>
          </a:xfrm>
        </p:grpSpPr>
        <p:sp>
          <p:nvSpPr>
            <p:cNvPr id="140" name=""/>
            <p:cNvSpPr/>
            <p:nvPr/>
          </p:nvSpPr>
          <p:spPr>
            <a:xfrm>
              <a:off x="7062840" y="3686040"/>
              <a:ext cx="39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ScriptL" descr=""/>
            <p:cNvPicPr/>
            <p:nvPr/>
          </p:nvPicPr>
          <p:blipFill>
            <a:blip r:embed="rId7"/>
            <a:stretch/>
          </p:blipFill>
          <p:spPr>
            <a:xfrm>
              <a:off x="7508880" y="3703680"/>
              <a:ext cx="77760" cy="14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1922a" descr=""/>
          <p:cNvPicPr/>
          <p:nvPr/>
        </p:nvPicPr>
        <p:blipFill>
          <a:blip r:embed="rId1"/>
          <a:stretch/>
        </p:blipFill>
        <p:spPr>
          <a:xfrm>
            <a:off x="1195560" y="1528920"/>
            <a:ext cx="2342880" cy="2247840"/>
          </a:xfrm>
          <a:prstGeom prst="rect">
            <a:avLst/>
          </a:prstGeom>
          <a:ln w="0">
            <a:noFill/>
          </a:ln>
        </p:spPr>
      </p:pic>
      <p:pic>
        <p:nvPicPr>
          <p:cNvPr id="143" name="T1922d" descr=""/>
          <p:cNvPicPr/>
          <p:nvPr/>
        </p:nvPicPr>
        <p:blipFill>
          <a:blip r:embed="rId2"/>
          <a:stretch/>
        </p:blipFill>
        <p:spPr>
          <a:xfrm>
            <a:off x="5661000" y="4343400"/>
            <a:ext cx="2254320" cy="2197080"/>
          </a:xfrm>
          <a:prstGeom prst="rect">
            <a:avLst/>
          </a:prstGeom>
          <a:ln w="0">
            <a:noFill/>
          </a:ln>
        </p:spPr>
      </p:pic>
      <p:pic>
        <p:nvPicPr>
          <p:cNvPr id="144" name="T1922c" descr=""/>
          <p:cNvPicPr/>
          <p:nvPr/>
        </p:nvPicPr>
        <p:blipFill>
          <a:blip r:embed="rId3"/>
          <a:stretch/>
        </p:blipFill>
        <p:spPr>
          <a:xfrm>
            <a:off x="1238400" y="4352760"/>
            <a:ext cx="2253960" cy="2190960"/>
          </a:xfrm>
          <a:prstGeom prst="rect">
            <a:avLst/>
          </a:prstGeom>
          <a:ln w="0">
            <a:noFill/>
          </a:ln>
        </p:spPr>
      </p:pic>
      <p:pic>
        <p:nvPicPr>
          <p:cNvPr id="145" name="T1922b" descr=""/>
          <p:cNvPicPr/>
          <p:nvPr/>
        </p:nvPicPr>
        <p:blipFill>
          <a:blip r:embed="rId4"/>
          <a:stretch/>
        </p:blipFill>
        <p:spPr>
          <a:xfrm>
            <a:off x="5656320" y="1557360"/>
            <a:ext cx="2374920" cy="2190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3960" y="565200"/>
            <a:ext cx="8236080" cy="333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ur separate layers, same target, formed under “identical” conditions show repeatable topology.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riation i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.6-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 r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3511440"/>
            <a:ext cx="295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thicke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e located at equa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ypically where crystal initi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479920" y="2854440"/>
            <a:ext cx="762120" cy="65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33960" y="4630680"/>
            <a:ext cx="677880" cy="92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801880" y="4630680"/>
            <a:ext cx="1052640" cy="88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798280" y="2809440"/>
            <a:ext cx="770040" cy="71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9680"/>
            <a:ext cx="22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e features n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ributable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sule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760" y="6541920"/>
            <a:ext cx="28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19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48000" y="182736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62760" y="185904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39000" y="463068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3560" y="463068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50920" y="3054240"/>
            <a:ext cx="693360" cy="2097000"/>
            <a:chOff x="250920" y="3054240"/>
            <a:chExt cx="693360" cy="2097000"/>
          </a:xfrm>
        </p:grpSpPr>
        <p:grpSp>
          <p:nvGrpSpPr>
            <p:cNvPr id="159" name=""/>
            <p:cNvGrpSpPr/>
            <p:nvPr/>
          </p:nvGrpSpPr>
          <p:grpSpPr>
            <a:xfrm>
              <a:off x="444600" y="3054240"/>
              <a:ext cx="499680" cy="2097000"/>
              <a:chOff x="444600" y="3054240"/>
              <a:chExt cx="499680" cy="209700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677520" y="3054240"/>
                <a:ext cx="266760" cy="2097000"/>
                <a:chOff x="677520" y="3054240"/>
                <a:chExt cx="266760" cy="2097000"/>
              </a:xfrm>
            </p:grpSpPr>
            <p:pic>
              <p:nvPicPr>
                <p:cNvPr id="161" name="T1922colorbar" descr=""/>
                <p:cNvPicPr/>
                <p:nvPr/>
              </p:nvPicPr>
              <p:blipFill>
                <a:blip r:embed="rId5"/>
                <a:srcRect l="0" t="361" r="0" b="0"/>
                <a:stretch/>
              </p:blipFill>
              <p:spPr>
                <a:xfrm>
                  <a:off x="688680" y="3054240"/>
                  <a:ext cx="245880" cy="2097000"/>
                </a:xfrm>
                <a:prstGeom prst="rect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</p:pic>
            <p:grpSp>
              <p:nvGrpSpPr>
                <p:cNvPr id="162" name=""/>
                <p:cNvGrpSpPr/>
                <p:nvPr/>
              </p:nvGrpSpPr>
              <p:grpSpPr>
                <a:xfrm>
                  <a:off x="677520" y="3244680"/>
                  <a:ext cx="266760" cy="1714680"/>
                  <a:chOff x="677520" y="3244680"/>
                  <a:chExt cx="266760" cy="171468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677520" y="3625920"/>
                    <a:ext cx="266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677520" y="4006800"/>
                    <a:ext cx="266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677520" y="3816360"/>
                    <a:ext cx="266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677520" y="4197240"/>
                    <a:ext cx="266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677520" y="4768920"/>
                    <a:ext cx="266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677520" y="4959360"/>
                    <a:ext cx="266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677520" y="4578480"/>
                    <a:ext cx="266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77520" y="4387680"/>
                    <a:ext cx="266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77520" y="3435480"/>
                    <a:ext cx="266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677520" y="3244680"/>
                    <a:ext cx="266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3" name=""/>
              <p:cNvSpPr/>
              <p:nvPr/>
            </p:nvSpPr>
            <p:spPr>
              <a:xfrm>
                <a:off x="444600" y="31510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9200" y="3340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29200" y="3530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29200" y="3719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29200" y="3909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9200" y="4098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44600" y="428940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44600" y="447804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4600" y="46684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4600" y="48592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 rot="16200000">
              <a:off x="229680" y="4011840"/>
              <a:ext cx="22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3960" y="565200"/>
            <a:ext cx="8236080" cy="333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oding target: 0.87-mm-diam shell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2-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ay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76720" y="17665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marL="285840" indent="-285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vidence of bub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s to fully melt i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 s to explode targe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ance on targ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33516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73 m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mJ required t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to explod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nthalpi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deuter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33516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4 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0">
              <a:lnSpc>
                <a:spcPts val="19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760" y="6541920"/>
            <a:ext cx="28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19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5120" y="1557360"/>
            <a:ext cx="478944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3960" y="565200"/>
            <a:ext cx="8236080" cy="333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igh resolution images of a cryogenic target exposed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o ambient radiation shows the target melting after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0 s and exploding after 78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720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720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720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53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3657600"/>
            <a:ext cx="224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 s, slum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90760" y="62485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76 s, gas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T1923c_96" descr=""/>
          <p:cNvPicPr/>
          <p:nvPr/>
        </p:nvPicPr>
        <p:blipFill>
          <a:blip r:embed="rId1"/>
          <a:stretch/>
        </p:blipFill>
        <p:spPr>
          <a:xfrm>
            <a:off x="1066680" y="4191120"/>
            <a:ext cx="1919520" cy="1919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7" name="T1923d_96" descr=""/>
          <p:cNvPicPr/>
          <p:nvPr/>
        </p:nvPicPr>
        <p:blipFill>
          <a:blip r:embed="rId2"/>
          <a:stretch/>
        </p:blipFill>
        <p:spPr>
          <a:xfrm>
            <a:off x="3581280" y="4191120"/>
            <a:ext cx="1919520" cy="1919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8" name="T1923a_96" descr=""/>
          <p:cNvPicPr/>
          <p:nvPr/>
        </p:nvPicPr>
        <p:blipFill>
          <a:blip r:embed="rId3"/>
          <a:stretch/>
        </p:blipFill>
        <p:spPr>
          <a:xfrm>
            <a:off x="1066680" y="1676520"/>
            <a:ext cx="1919520" cy="1919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9" name="T1923b_96" descr=""/>
          <p:cNvPicPr/>
          <p:nvPr/>
        </p:nvPicPr>
        <p:blipFill>
          <a:blip r:embed="rId4"/>
          <a:stretch/>
        </p:blipFill>
        <p:spPr>
          <a:xfrm>
            <a:off x="3581280" y="1676520"/>
            <a:ext cx="1919520" cy="1919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00" name="T1923e_96" descr=""/>
          <p:cNvPicPr/>
          <p:nvPr/>
        </p:nvPicPr>
        <p:blipFill>
          <a:blip r:embed="rId5"/>
          <a:stretch/>
        </p:blipFill>
        <p:spPr>
          <a:xfrm>
            <a:off x="6095880" y="1676520"/>
            <a:ext cx="1919520" cy="1919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819000" y="624852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0 s, fully mel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6160" y="3657600"/>
            <a:ext cx="24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0.25 s, still froz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95920" y="3657600"/>
            <a:ext cx="276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5 s, almost mel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2760" y="6541920"/>
            <a:ext cx="28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19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1925_144" descr=""/>
          <p:cNvPicPr/>
          <p:nvPr/>
        </p:nvPicPr>
        <p:blipFill>
          <a:blip r:embed="rId1"/>
          <a:stretch/>
        </p:blipFill>
        <p:spPr>
          <a:xfrm>
            <a:off x="1047600" y="2238480"/>
            <a:ext cx="7391520" cy="3463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3960" y="565200"/>
            <a:ext cx="8236080" cy="333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ertical lineout through the targe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s the g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id and g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quid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413000" y="5375160"/>
            <a:ext cx="131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40560" y="5041800"/>
            <a:ext cx="1238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ce slum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65680" y="4876920"/>
            <a:ext cx="1439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iquid heating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d expa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51720" y="4876920"/>
            <a:ext cx="1238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as fraction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cre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931880" y="3797280"/>
            <a:ext cx="77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p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047600" y="2827440"/>
            <a:ext cx="109440" cy="2311200"/>
            <a:chOff x="1047600" y="2827440"/>
            <a:chExt cx="109440" cy="2311200"/>
          </a:xfrm>
        </p:grpSpPr>
        <p:sp>
          <p:nvSpPr>
            <p:cNvPr id="213" name=""/>
            <p:cNvSpPr/>
            <p:nvPr/>
          </p:nvSpPr>
          <p:spPr>
            <a:xfrm>
              <a:off x="1047600" y="28274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7600" y="34052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47600" y="39830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47600" y="45608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47600" y="51386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894040" y="5605560"/>
            <a:ext cx="3695760" cy="109440"/>
            <a:chOff x="2894040" y="5605560"/>
            <a:chExt cx="3695760" cy="109440"/>
          </a:xfrm>
        </p:grpSpPr>
        <p:sp>
          <p:nvSpPr>
            <p:cNvPr id="219" name=""/>
            <p:cNvSpPr/>
            <p:nvPr/>
          </p:nvSpPr>
          <p:spPr>
            <a:xfrm>
              <a:off x="6589800" y="5605560"/>
              <a:ext cx="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41920" y="5605560"/>
              <a:ext cx="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4040" y="5605560"/>
              <a:ext cx="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8329680" y="2827440"/>
            <a:ext cx="109440" cy="2311200"/>
            <a:chOff x="8329680" y="2827440"/>
            <a:chExt cx="109440" cy="2311200"/>
          </a:xfrm>
        </p:grpSpPr>
        <p:sp>
          <p:nvSpPr>
            <p:cNvPr id="223" name=""/>
            <p:cNvSpPr/>
            <p:nvPr/>
          </p:nvSpPr>
          <p:spPr>
            <a:xfrm>
              <a:off x="8329680" y="28274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329680" y="34052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329680" y="39830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329680" y="45608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329680" y="51386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894040" y="2238480"/>
            <a:ext cx="3695760" cy="109440"/>
            <a:chOff x="2894040" y="2238480"/>
            <a:chExt cx="3695760" cy="109440"/>
          </a:xfrm>
        </p:grpSpPr>
        <p:sp>
          <p:nvSpPr>
            <p:cNvPr id="229" name=""/>
            <p:cNvSpPr/>
            <p:nvPr/>
          </p:nvSpPr>
          <p:spPr>
            <a:xfrm>
              <a:off x="6589800" y="2238480"/>
              <a:ext cx="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41920" y="2238480"/>
              <a:ext cx="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94040" y="2238480"/>
              <a:ext cx="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0920" y="2134440"/>
            <a:ext cx="339120" cy="3697920"/>
            <a:chOff x="610920" y="2134440"/>
            <a:chExt cx="339120" cy="3697920"/>
          </a:xfrm>
        </p:grpSpPr>
        <p:sp>
          <p:nvSpPr>
            <p:cNvPr id="233" name=""/>
            <p:cNvSpPr/>
            <p:nvPr/>
          </p:nvSpPr>
          <p:spPr>
            <a:xfrm>
              <a:off x="723600" y="2134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3600" y="2718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3600" y="3290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6280" y="3871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0920" y="55886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0920" y="50173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0920" y="44456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 anchorCtr="1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6476760" y="5792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5792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81000" y="5792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88560" y="5792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55280" y="6149160"/>
            <a:ext cx="77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2760" y="6541920"/>
            <a:ext cx="28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19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-674640" y="3852000"/>
            <a:ext cx="2135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ized dia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3960" y="565200"/>
            <a:ext cx="8236080" cy="333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termining how the target will respond to the target chamber environment requires knowing the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eat flux, Q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,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T,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on the targ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38120" y="1809720"/>
            <a:ext cx="8251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marL="285840" indent="0">
              <a:lnSpc>
                <a:spcPts val="19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approximate flux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t and 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a targe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design experi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imentally determine the heat transfer effici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33516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the accommodation and sticking coefficien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33516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rapidly does Xe condense on the surfac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33516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alculate accurate flux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data as a boundary condition in a CFD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19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2760" y="6541920"/>
            <a:ext cx="28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19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18:54Z</dcterms:created>
  <dc:creator>David R. Harding</dc:creator>
  <dc:description/>
  <dc:language>en-US</dc:language>
  <cp:lastModifiedBy>nkle</cp:lastModifiedBy>
  <dcterms:modified xsi:type="dcterms:W3CDTF">2004-06-01T13:38:22Z</dcterms:modified>
  <cp:revision>86</cp:revision>
  <dc:subject/>
  <dc:title>Higher quality ice layers continue to be made. Time to form these layers is surprisingly quick.</dc:title>
</cp:coreProperties>
</file>