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060-BEBC-4C93-9AFF-37784400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203-3B51-4B60-8BEB-677EEE05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6D9-ADF4-449F-8FDB-ED8A3354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F71-A0CF-43E7-95F9-EF76400D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BEE-BBB3-437E-82E3-3C2BA8DD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F3A-F986-4915-ABC8-29E4AAEE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2D9-9F72-40B5-8216-5EC876E6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302-8DF1-4794-BC38-B9CF017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9B3-EC7D-44A9-8545-3AE7234A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B4B-B87C-4212-AE69-743196B4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EAC-3796-487B-A2C4-B771771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BF3-1C67-4C57-AB20-967346F2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AE2B-C2E5-41EE-9F72-DB007108E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7836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3240" y="676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 may be removed from the insulating foam through small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5200" y="1924200"/>
            <a:ext cx="3544920" cy="2201760"/>
            <a:chOff x="295200" y="1924200"/>
            <a:chExt cx="3544920" cy="2201760"/>
          </a:xfrm>
        </p:grpSpPr>
        <p:grpSp>
          <p:nvGrpSpPr>
            <p:cNvPr id="44" name=""/>
            <p:cNvGrpSpPr/>
            <p:nvPr/>
          </p:nvGrpSpPr>
          <p:grpSpPr>
            <a:xfrm>
              <a:off x="295200" y="1924200"/>
              <a:ext cx="2200320" cy="2201760"/>
              <a:chOff x="295200" y="1924200"/>
              <a:chExt cx="2200320" cy="2201760"/>
            </a:xfrm>
          </p:grpSpPr>
          <p:sp>
            <p:nvSpPr>
              <p:cNvPr id="45" name=""/>
              <p:cNvSpPr/>
              <p:nvPr/>
            </p:nvSpPr>
            <p:spPr>
              <a:xfrm>
                <a:off x="295200" y="1924200"/>
                <a:ext cx="2200320" cy="22017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39640" y="2168640"/>
                <a:ext cx="1711440" cy="17125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4080" y="2413440"/>
                <a:ext cx="1222200" cy="122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395360" y="3025080"/>
                <a:ext cx="6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95360" y="3025080"/>
                <a:ext cx="48888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95360" y="3025080"/>
                <a:ext cx="0" cy="11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395360" y="2780280"/>
                <a:ext cx="610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17400" y="3147480"/>
                <a:ext cx="610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28520" y="3269520"/>
                <a:ext cx="610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739960" y="2535840"/>
              <a:ext cx="1100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sulating fo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17560" y="1924200"/>
              <a:ext cx="1100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T fuel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761840" y="2291040"/>
              <a:ext cx="9777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373120" y="2780280"/>
              <a:ext cx="488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39960" y="3147480"/>
              <a:ext cx="1100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er seal co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44400" y="3391920"/>
              <a:ext cx="2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73760" y="1671480"/>
                <a:ext cx="30715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513320" y="4622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5360" y="240624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am fractional fill same as inner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367160" y="2963880"/>
                <a:ext cx="1362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D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173480" y="3637080"/>
            <a:ext cx="47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quid drain velocity limited by friction factor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accounts for ga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694560" y="2930400"/>
                <a:ext cx="1554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Y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D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14320" y="4603680"/>
                <a:ext cx="18925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lowrate</m:t>
                    </m:r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p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694400" y="4616280"/>
                <a:ext cx="13428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lowra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34600" y="5690880"/>
            <a:ext cx="82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se calculations assume that the foam does not restrict the flow through the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24360" y="893880"/>
            <a:ext cx="650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 liquid drains quickly through a small 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8960" y="1370160"/>
          <a:ext cx="8555040" cy="31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1370160"/>
                    <a:ext cx="855504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93760" y="4322880"/>
                <a:ext cx="78706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5 mm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 mm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5 mm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 mm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5 mm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4 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44440" y="5022720"/>
                <a:ext cx="3573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´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Pa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7 kg/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m/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64960" y="5564160"/>
                <a:ext cx="5731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lowrat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,600 mm/s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m/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36520" y="6226200"/>
                <a:ext cx="39132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 m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7 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m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37880" y="893880"/>
            <a:ext cx="513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 gas requires more time to dr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7440" y="1717560"/>
                <a:ext cx="5356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F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Fl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4 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7 kg/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 kg/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34 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040800" y="18460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chang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22280" y="2568600"/>
                <a:ext cx="408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´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Pa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7 kg/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m/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0440" y="3432240"/>
                <a:ext cx="5657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lowrat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00 mm/s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9760" y="4451400"/>
                <a:ext cx="3857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4 m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93 m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667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=</m:t>
                    </m:r>
                    <m: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02280" y="5582520"/>
            <a:ext cx="706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everal micron sized holes drilled with laser or ion beams will en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apid draining of the insulating foam if the the foam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log the ho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56:02Z</dcterms:created>
  <dc:creator>.</dc:creator>
  <dc:description/>
  <dc:language>en-US</dc:language>
  <cp:lastModifiedBy>.</cp:lastModifiedBy>
  <cp:lastPrinted>2003-09-16T16:35:20Z</cp:lastPrinted>
  <dcterms:modified xsi:type="dcterms:W3CDTF">2003-09-19T22:57:45Z</dcterms:modified>
  <cp:revision>169</cp:revision>
  <dc:subject/>
  <dc:title>No Slide Title</dc:title>
</cp:coreProperties>
</file>